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946C-BBB6-44B1-959F-5966AEAEF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1B9D-5F0E-4B40-982C-C64588E9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EF08-BDAF-4335-BEE3-C07FDD679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72D8-4474-40F6-ABF1-B66B61E3B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6303D-C841-4A05-B2D3-CF24D08E2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32A9-2737-4B79-AEE6-8C423284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6CC6-3B33-4EFB-94FB-AD9F9FAD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5325-B540-452B-9B83-A540C101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484D-D572-4E98-9BF2-02E9F894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ACAB-89AB-4839-9CF8-6151FBB0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7643-0C3D-40DD-B97F-78A87B96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4116-0479-4036-8757-38279F078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85A6-9AEB-41DA-AD7B-2839A870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E6133-C5BD-43D7-9726-8CCCF43D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FF4D-D48C-4056-845F-7BA3DAA2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9EEB-E8CF-4D16-9293-9DF90884F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F14A-F921-4220-BDEB-477932F0D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32E72-D348-46BB-B246-26C35D5D6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E6C61-A4D3-4D70-BD24-E8FF2F98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0E352-E7D3-4B56-9539-EAD1349E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7805C-ECBD-4B4E-A813-B022D4B1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19C4C-40D2-431D-9695-B48391EAF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334B-A5FD-4994-8BB4-484C66C9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784F6-EA96-4243-A350-77775FBB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C29D9-E523-4899-B085-974ED38F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53FEB-81A3-4589-B649-761D48DB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A2C4A-B87D-474F-AF03-AD1B57FF9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AE0DB-CF33-42CD-9DEE-7BF2D384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50B4C-E470-46FA-89DD-FC0369012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D177B-7C92-42B7-9E50-93202AD42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B18E-B86B-4F76-8273-7F248C1A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B54A-0AFB-42B4-B1D6-A1229608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08D9-23F3-4FC6-9B84-8FD3E80D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B14F-783D-41FD-AF78-C216BC44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A213-9487-46FD-9E22-8CADF6B2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AACF-D727-4C6E-8409-008DAC29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0A03-A825-4B6A-9775-3479C91831B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9906-B28E-4F63-B37C-B70461B0260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8.04.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DFA0-C6CC-40C3-8770-1C73EA2C71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obrnadzor.gov.ru/common/upload/Tipovye_narusheniya_v_2017_godu.doc" TargetMode="External"/><Relationship Id="rId2" Type="http://schemas.openxmlformats.org/officeDocument/2006/relationships/hyperlink" Target="http://www.obrnadzor.gov.ru/common/upload/Tipovye_narusheniya_v_2017_godu.doc" TargetMode="External"/><Relationship Id="rId3" Type="http://schemas.openxmlformats.org/officeDocument/2006/relationships/hyperlink" Target="http://www.obrnadzor.gov.ru/common/upload/Tipovye_narusheniya_v_2017_godu.doc" TargetMode="External"/><Relationship Id="rId4" Type="http://schemas.openxmlformats.org/officeDocument/2006/relationships/hyperlink" Target="http://www.obrnadzor.gov.ru/common/upload/Tipovye_narusheniya_v_2017_godu.doc" TargetMode="External"/><Relationship Id="rId5" Type="http://schemas.openxmlformats.org/officeDocument/2006/relationships/hyperlink" Target="http://www.obrnadzor.gov.ru/common/upload/Tipovye_narusheniya_v_2017_godu.doc" TargetMode="External"/><Relationship Id="rId6" Type="http://schemas.openxmlformats.org/officeDocument/2006/relationships/hyperlink" Target="http://www.obrnadzor.gov.ru/common/upload/Tipovye_narusheniya_v_2017_godu.doc" TargetMode="External"/><Relationship Id="rId7" Type="http://schemas.openxmlformats.org/officeDocument/2006/relationships/hyperlink" Target="http://www.obrnadzor.gov.ru/common/upload/Tipovye_narusheniya_v_2017_godu.doc" TargetMode="External"/><Relationship Id="rId8" Type="http://schemas.openxmlformats.org/officeDocument/2006/relationships/hyperlink" Target="http://www.obrnadzor.gov.ru/common/upload/Tipovye_narusheniya_v_2017_godu.doc" TargetMode="External"/><Relationship Id="rId9" Type="http://schemas.openxmlformats.org/officeDocument/2006/relationships/hyperlink" Target="http://www.obrnadzor.gov.ru/common/upload/Tipovye_narusheniya_v_2017_godu.doc" TargetMode="External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280" y="1628640"/>
            <a:ext cx="777564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66"/>
                </a:solidFill>
                <a:latin typeface="Book Antiqua"/>
              </a:rPr>
              <a:t>Особенности инновационной деятельности образовательной организации при реализации основной образовательной программы среднего общего образования и основных программ профессионального обуч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1338120" y="101520"/>
            <a:ext cx="748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Book Antiqua"/>
              </a:rPr>
              <a:t>Государственное бюджетное учрежд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Book Antiqua"/>
              </a:rPr>
              <a:t>дополнительного профессионального образ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Book Antiqua"/>
              </a:rPr>
              <a:t>«Челябинский институт переподготовки и повышения квалифик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Book Antiqua"/>
              </a:rPr>
              <a:t>работников образова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31" descr="чиппкро  знак"/>
          <p:cNvPicPr/>
          <p:nvPr/>
        </p:nvPicPr>
        <p:blipFill>
          <a:blip r:embed="rId1"/>
          <a:srcRect l="50157" t="0" r="0" b="0"/>
          <a:stretch/>
        </p:blipFill>
        <p:spPr>
          <a:xfrm>
            <a:off x="0" y="38160"/>
            <a:ext cx="971640" cy="842760"/>
          </a:xfrm>
          <a:prstGeom prst="rect">
            <a:avLst/>
          </a:prstGeom>
          <a:ln w="0">
            <a:noFill/>
          </a:ln>
        </p:spPr>
      </p:pic>
      <p:sp>
        <p:nvSpPr>
          <p:cNvPr id="126" name="Объект 6"/>
          <p:cNvSpPr/>
          <p:nvPr/>
        </p:nvSpPr>
        <p:spPr>
          <a:xfrm>
            <a:off x="1646280" y="5013360"/>
            <a:ext cx="7472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Book Antiqua"/>
              </a:rPr>
              <a:t>Солодкова Марина Ивановна</a:t>
            </a:r>
            <a:r>
              <a:rPr b="1" lang="ru-RU" sz="2000" spc="-1" strike="noStrike">
                <a:solidFill>
                  <a:srgbClr val="222268"/>
                </a:solidFill>
                <a:latin typeface="Cambri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Book Antiqua"/>
              </a:rPr>
              <a:t>первый проректор ГБУ ДПО ЧИППКРО, заместитель председателя Учебно-методического объединения в системе общего образования в Челябинской обла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Book Antiqua"/>
              </a:rPr>
              <a:t>Отличник просвещения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280" y="1628640"/>
            <a:ext cx="777564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66"/>
                </a:solidFill>
                <a:latin typeface="Book Antiqua"/>
              </a:rPr>
              <a:t>Особенности инновационной деятельности образовательной организации при реализации основной образовательной программы среднего общего образования и основных программ профессионального обуч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1338120" y="101520"/>
            <a:ext cx="748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Book Antiqua"/>
              </a:rPr>
              <a:t>Государственное бюджетное учрежд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Book Antiqua"/>
              </a:rPr>
              <a:t>дополнительного профессионального образ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Book Antiqua"/>
              </a:rPr>
              <a:t>«Челябинский институт переподготовки и повышения квалифик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Book Antiqua"/>
              </a:rPr>
              <a:t>работников образова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031" descr="чиппкро  знак"/>
          <p:cNvPicPr/>
          <p:nvPr/>
        </p:nvPicPr>
        <p:blipFill>
          <a:blip r:embed="rId1"/>
          <a:srcRect l="50157" t="0" r="0" b="0"/>
          <a:stretch/>
        </p:blipFill>
        <p:spPr>
          <a:xfrm>
            <a:off x="0" y="38160"/>
            <a:ext cx="971640" cy="842760"/>
          </a:xfrm>
          <a:prstGeom prst="rect">
            <a:avLst/>
          </a:prstGeom>
          <a:ln w="0">
            <a:noFill/>
          </a:ln>
        </p:spPr>
      </p:pic>
      <p:sp>
        <p:nvSpPr>
          <p:cNvPr id="154" name="Объект 6"/>
          <p:cNvSpPr/>
          <p:nvPr/>
        </p:nvSpPr>
        <p:spPr>
          <a:xfrm>
            <a:off x="1646280" y="5229360"/>
            <a:ext cx="747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Book Antiqua"/>
              </a:rPr>
              <a:t>Солодкова Марина Ивановна</a:t>
            </a:r>
            <a:r>
              <a:rPr b="1" lang="ru-RU" sz="2000" spc="-1" strike="noStrike">
                <a:solidFill>
                  <a:srgbClr val="222268"/>
                </a:solidFill>
                <a:latin typeface="Cambri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Book Antiqua"/>
              </a:rPr>
              <a:t>первый проректор ГБУ ДПО ЧИППКР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Book Antiqua"/>
              </a:rPr>
              <a:t>Отличник просвещения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37152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Book Antiqua"/>
              </a:rPr>
              <a:t>Особенности инновационной деятельности образовательной организации при реализации основной образовательной программы среднего общего образования </a:t>
            </a:r>
            <a:br>
              <a:rPr sz="2200"/>
            </a:br>
            <a:r>
              <a:rPr b="1" lang="ru-RU" sz="2200" spc="-1" strike="noStrike">
                <a:solidFill>
                  <a:srgbClr val="003366"/>
                </a:solidFill>
                <a:latin typeface="Book Antiqua"/>
              </a:rPr>
              <a:t>и основных программ профессионального обуч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50840" y="1577880"/>
            <a:ext cx="88041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Book Antiqua"/>
              </a:rPr>
              <a:t>Инновации ФГОС среднего общего 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Book Antiqua"/>
              </a:rPr>
              <a:t>изучение предметов на базовом и углублённом уров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Book Antiqua"/>
              </a:rPr>
              <a:t>предполагается введение отличных от классно-урочной системы форм организации образовательного процесс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Book Antiqua"/>
              </a:rPr>
              <a:t>максимально актуализируются вопросы рационального распределения и использования кадровых, учебно-методических, финансовых и материально-технических ресурсов для обеспечения надлежащего качества образова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Book Antiqua"/>
              </a:rPr>
              <a:t>имеется возможность интеграции двух основных программ – среднего общего образования и профессионального обуч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rcRect l="0" t="12378" r="0" b="0"/>
          <a:stretch/>
        </p:blipFill>
        <p:spPr>
          <a:xfrm>
            <a:off x="0" y="0"/>
            <a:ext cx="46836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6040" y="32544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Book Antiqua"/>
              </a:rPr>
              <a:t>Особенности инновационной деятельности образовательной организации при реализации основной образовательной программы среднего общего образования и основных программ профессионального обуч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33280" y="1700280"/>
            <a:ext cx="8802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Book Antiqua"/>
              </a:rPr>
              <a:t>Федеральный государственный образовательный стандарт среднего общего образования (далее – стандарт) допускает реализацию основных программ профессионального обучения на указанном уровне образования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Book Antiqua"/>
              </a:rPr>
              <a:t>«… образовательная организация обеспечивает реализацию учебных планов одного или нескольких профилей обучения при наличии необходимых условий профессионального обучения для выполнения определенного вида трудовой деятельности (профессии) в сфере технического и обслуживающего труда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Book Antiqua"/>
              </a:rPr>
              <a:t>К профилям обучения отнесены: естественнонаучный, гуманитарный, социально-экономический, технологический, универсальный профил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rcRect l="0" t="12378" r="0" b="0"/>
          <a:stretch/>
        </p:blipFill>
        <p:spPr>
          <a:xfrm>
            <a:off x="0" y="0"/>
            <a:ext cx="46836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31752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Book Antiqua"/>
              </a:rPr>
              <a:t>Особенности инновационной деятельности образовательной организации при реализации основной образовательной программы среднего общего образования и основных программ профессионального обуч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08000" y="1109520"/>
            <a:ext cx="89280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3366"/>
                </a:solidFill>
                <a:latin typeface="Book Antiqua"/>
                <a:ea typeface="Calibri"/>
              </a:rPr>
              <a:t>Необходимые условия профессионального о</a:t>
            </a:r>
            <a:r>
              <a:rPr b="0" lang="ru-RU" sz="2100" spc="-1" strike="noStrike">
                <a:solidFill>
                  <a:srgbClr val="003366"/>
                </a:solidFill>
                <a:latin typeface="Book Antiqua"/>
                <a:ea typeface="Calibri"/>
              </a:rPr>
              <a:t>бучения для выполнения определенного вида трудовой деятельности (профессии) в сфере технического и обслуживающего труда при интеграции программ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250920" algn="just">
              <a:lnSpc>
                <a:spcPct val="100000"/>
              </a:lnSpc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66"/>
                </a:solidFill>
                <a:latin typeface="Book Antiqua"/>
                <a:ea typeface="Calibri"/>
              </a:rPr>
              <a:t>наличие у общеобразовательной организации лицензии на право ведения образовательной деятельности по реализации основных образовательных программ профессионального обучения, так как лицензирование образовательной деятельности осуществляется, в том числе по профессиям, специальностям, направлениям подготовки (для профессионального образования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250920" algn="just">
              <a:lnSpc>
                <a:spcPct val="100000"/>
              </a:lnSpc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66"/>
                </a:solidFill>
                <a:latin typeface="Book Antiqua"/>
                <a:ea typeface="Calibri"/>
              </a:rPr>
              <a:t>сформированность в общеобразовательной организации локальной нормативной базы, которая регламентирует реализацию основных образовательных программ профессионального обучения (перечень профессий рабочих, должностей служащих, по которым осуществляется профессиональное обучение, утвержден приказом Минобрнауки России от 02.07.2013 № 513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rcRect l="0" t="12378" r="0" b="0"/>
          <a:stretch/>
        </p:blipFill>
        <p:spPr>
          <a:xfrm>
            <a:off x="0" y="0"/>
            <a:ext cx="46836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26496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Book Antiqua"/>
              </a:rPr>
              <a:t>Особенности инновационной деятельности образовательной организации при реализации основной образовательной программы среднего общего образования и основных программ профессионального обуч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0" y="12934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Book Antiqua"/>
              </a:rPr>
              <a:t>Примерный перечень локальных актов, в которые должны быть внесены изменения, и (или) которые необходимо разработать дополнитель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250920" algn="just">
              <a:lnSpc>
                <a:spcPct val="95000"/>
              </a:lnSpc>
              <a:buClr>
                <a:srgbClr val="0033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Book Antiqua"/>
              </a:rPr>
              <a:t>Основная образовательная программа среднего общего образования, интегрированная с основной образовательной программой профессионального обучения (все составляющие программы должны учитывать одновременную реализацию двух основных программ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250920" algn="just">
              <a:lnSpc>
                <a:spcPct val="95000"/>
              </a:lnSpc>
              <a:buClr>
                <a:srgbClr val="0033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Book Antiqua"/>
              </a:rPr>
              <a:t>Положение о текущем  контроле успеваемости и промежуточной аттестации обучающихся (в т.ч. с учётом квалификационного экзамен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250920" algn="just">
              <a:lnSpc>
                <a:spcPct val="95000"/>
              </a:lnSpc>
              <a:buClr>
                <a:srgbClr val="0033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Book Antiqua"/>
              </a:rPr>
              <a:t>Календарный учебный графи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250920" algn="just">
              <a:lnSpc>
                <a:spcPct val="95000"/>
              </a:lnSpc>
              <a:buClr>
                <a:srgbClr val="0033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Book Antiqua"/>
              </a:rPr>
              <a:t>Порядок индивидуального учёта результатов освоения обучающимися образовательных программ и поощрений обучающихся, а также хранение в архивах информации об этих результатах и поощрениях на бумажных и (или) электронных носителя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250920" algn="just">
              <a:lnSpc>
                <a:spcPct val="95000"/>
              </a:lnSpc>
              <a:buClr>
                <a:srgbClr val="0033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Book Antiqua"/>
              </a:rPr>
              <a:t>Порядок и основания перевода, отчисления и восстановления обучающих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250920" algn="just">
              <a:lnSpc>
                <a:spcPct val="95000"/>
              </a:lnSpc>
              <a:buClr>
                <a:srgbClr val="0033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Book Antiqua"/>
              </a:rPr>
              <a:t>…</a:t>
            </a:r>
            <a:r>
              <a:rPr b="0" lang="ru-RU" sz="2000" spc="-1" strike="noStrike">
                <a:solidFill>
                  <a:srgbClr val="003366"/>
                </a:solidFill>
                <a:latin typeface="Book Antiqu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7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7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rcRect l="0" t="12378" r="0" b="0"/>
          <a:stretch/>
        </p:blipFill>
        <p:spPr>
          <a:xfrm>
            <a:off x="0" y="0"/>
            <a:ext cx="46836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Book Antiqua"/>
              </a:rPr>
              <a:t>Особенности инновационной деятельности образовательной организации при реализации основной образовательной программы среднего общего образования и основных программ профессионального обуч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8000" y="1339560"/>
            <a:ext cx="8928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66"/>
                </a:solidFill>
                <a:latin typeface="Book Antiqua"/>
              </a:rPr>
              <a:t>Итоговая аттестация в форме квалификационного экзамена проводится общеобразовательной организацией для определения соответствия полученных учащимися, прошедшими профессиональное обучение, знаний, умений и навыков, и установления на этой основе квалификационных разрядов, классов, категорий по соответствующим профессиям рабочих, должностям служащих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66"/>
                </a:solidFill>
                <a:latin typeface="Book Antiqua"/>
              </a:rPr>
              <a:t>Квалификационный экзамен независимо от вида профессионального обучения включает в себя практическую квалификационную работу и проверку теоретических знаний в пределах квалификационных требований, указанных в квалификационных справочниках, и (или) профессиональных стандартах. К проведению квалификационного экзамена привлекаются представители работодателей, их объединений (не привлечение работодателей, их объединений к квалификационному экзамену может рассматриваться Рособнадзором как нарушение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66"/>
                </a:solidFill>
                <a:latin typeface="Book Antiqua"/>
              </a:rPr>
              <a:t>(см. Репин А. О нарушениях, выявляемых Рособрнадзором // Ревизии и проверки финансово-хозяйственной деятельности государственных (муниципальных) учреждений. – 2018. –№ 5. – С. 17 - 29.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1"/>
              </a:rPr>
              <a:t>www</a:t>
            </a:r>
            <a:r>
              <a:rPr b="0" lang="ru-RU" sz="19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2"/>
              </a:rPr>
              <a:t>.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3"/>
              </a:rPr>
              <a:t>obrnadzor</a:t>
            </a:r>
            <a:r>
              <a:rPr b="0" lang="ru-RU" sz="19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4"/>
              </a:rPr>
              <a:t>.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5"/>
              </a:rPr>
              <a:t>gov</a:t>
            </a:r>
            <a:r>
              <a:rPr b="0" lang="ru-RU" sz="19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6"/>
              </a:rPr>
              <a:t>.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7"/>
              </a:rPr>
              <a:t>ru</a:t>
            </a:r>
            <a:r>
              <a:rPr b="0" lang="ru-RU" sz="19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8"/>
              </a:rPr>
              <a:t>/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9"/>
              </a:rPr>
              <a:t>common</a:t>
            </a:r>
            <a:r>
              <a:rPr b="0" lang="ru-RU" sz="19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/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upload</a:t>
            </a:r>
            <a:r>
              <a:rPr b="0" lang="ru-RU" sz="19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/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Tipovye</a:t>
            </a:r>
            <a:r>
              <a:rPr b="0" lang="ru-RU" sz="19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_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narusheniya</a:t>
            </a:r>
            <a:r>
              <a:rPr b="0" lang="ru-RU" sz="19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_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v</a:t>
            </a:r>
            <a:r>
              <a:rPr b="0" lang="ru-RU" sz="19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_2017_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godu</a:t>
            </a:r>
            <a:r>
              <a:rPr b="0" lang="ru-RU" sz="19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.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doc</a:t>
            </a:r>
            <a:r>
              <a:rPr b="0" lang="ru-RU" sz="1900" spc="-1" strike="noStrike">
                <a:solidFill>
                  <a:srgbClr val="003366"/>
                </a:solidFill>
                <a:latin typeface="Book Antiqua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0"/>
          <a:srcRect l="0" t="12378" r="0" b="0"/>
          <a:stretch/>
        </p:blipFill>
        <p:spPr>
          <a:xfrm>
            <a:off x="0" y="0"/>
            <a:ext cx="46836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43164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Book Antiqua"/>
              </a:rPr>
              <a:t>Особенности инновационной деятельности образовательной организации при реализации основной образовательной программы среднего общего образования и основных программ профессионального обуч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08000" y="1483920"/>
            <a:ext cx="892800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Book Antiqua"/>
              </a:rPr>
              <a:t>При отборе профессией (должностей служащих) для реализации основной образовательной программы профессионального обучения в общеобразовательной организац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250920" algn="just">
              <a:lnSpc>
                <a:spcPct val="107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Book Antiqua"/>
              </a:rPr>
              <a:t>следует отбирать такие профессии (должности служащих), для которых не установлены требования о наличии уровня образования, который не реализуется в общеобразовательных организациях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7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250920" algn="just">
              <a:lnSpc>
                <a:spcPct val="107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Book Antiqua"/>
              </a:rPr>
              <a:t>необходимо учитывать требования трудового законодательства, а именно, наличие ограничений и запретов на труд для лиц в возрасте до восемнадцати ле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rcRect l="0" t="12378" r="0" b="0"/>
          <a:stretch/>
        </p:blipFill>
        <p:spPr>
          <a:xfrm>
            <a:off x="0" y="0"/>
            <a:ext cx="46836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29988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Book Antiqua"/>
              </a:rPr>
              <a:t>Особенности инновационной деятельности образовательной организации при реализации основной образовательной программы среднего общего образования и основных программ профессионального обуч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08000" y="1413000"/>
            <a:ext cx="892800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Book Antiqua"/>
              </a:rPr>
              <a:t>При формировании учебных планов на уровне среднего общего образования необходимо ориентироваться на определенную сферу профессиональной деятельнос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250920" algn="just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Book Antiqua"/>
              </a:rPr>
              <a:t>естественнонаучный профиль – медицина, биотехнологии и др.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250920" algn="just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Book Antiqua"/>
              </a:rPr>
              <a:t>технологический профиль – производственная, инженерная и информационная сферы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250920" algn="just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Book Antiqua"/>
              </a:rPr>
              <a:t>гуманитарный профиль – педагогика, психология, общественные отношения и др.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250920" algn="just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Book Antiqua"/>
              </a:rPr>
              <a:t>социально-экономический профиль – профессии, связанные с социальной сферой, финансами и экономикой, с обработкой информации, с такими сферами деятельности, как управление, предпринимательство, работа с финансами и др.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250920" algn="just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Book Antiqua"/>
              </a:rPr>
              <a:t>универсальный профиль – ориентирован, в первую очередь, на обучающихся, чей выбор «не вписывается» в рамки заданных выше профилей. При реализации профессионального обучения в рамках данного профиля обучающимся предоставляется возможность осуществить профессиональные пробы по одной или нескольким профессиям по выбор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rcRect l="0" t="12378" r="0" b="0"/>
          <a:stretch/>
        </p:blipFill>
        <p:spPr>
          <a:xfrm>
            <a:off x="0" y="0"/>
            <a:ext cx="46836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32688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Book Antiqua"/>
              </a:rPr>
              <a:t>Особенности инновационной деятельности образовательной организации при реализации основной образовательной программы среднего общего образования и основных программ профессионального обуч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233280" y="1484280"/>
            <a:ext cx="878688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7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3366"/>
                </a:solidFill>
                <a:latin typeface="Book Antiqua"/>
              </a:rPr>
              <a:t>Проблематика инновационной деятельности школ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7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3366"/>
                </a:solidFill>
                <a:latin typeface="Book Antiqua"/>
              </a:rPr>
              <a:t>на 2019-2021 годы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7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Book Antiqua"/>
              </a:rPr>
              <a:t>Интеграция основной образовательной программы среднего общего образования и основной программы профессионального обу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7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Book Antiqua"/>
              </a:rPr>
              <a:t>Сетевое взаимодействие при реализации основной образовательной программы среднего общего образования и основной программы профессионального обучения, в том числе в рамках реализации положений государственной программы «Национальная технологическая инициатива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rcRect l="0" t="12378" r="0" b="0"/>
          <a:stretch/>
        </p:blipFill>
        <p:spPr>
          <a:xfrm>
            <a:off x="0" y="0"/>
            <a:ext cx="46836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04:00:58Z</dcterms:created>
  <dc:creator>Solodkova_mi</dc:creator>
  <dc:description/>
  <dc:language>en-US</dc:language>
  <cp:lastModifiedBy>Коптелов</cp:lastModifiedBy>
  <dcterms:modified xsi:type="dcterms:W3CDTF">2018-11-09T07:50:59Z</dcterms:modified>
  <cp:revision>55</cp:revision>
  <dc:subject/>
  <dc:title>Основные направления деятельности стажерских и базовых площадок Челябинской области в рамках реализации мероприятий ФЦРПО по развитию общего и дошкольного образования</dc:title>
</cp:coreProperties>
</file>