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E85-EB28-4AC6-A6D3-CA618F23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3D97-DAA9-449A-9D63-6E58DCA18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61D-293E-4B30-BE7D-9D882810B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898-6946-4C0E-B8DD-5354789D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082B-08AB-4F08-A5C7-ED268622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69EE-3CB7-4B93-BBB8-0542CD241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B6FD-C158-497A-ABE7-28C8A383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AAEFB-59B4-4112-8269-A77A0B8E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E1B9F-82AF-49DA-9A05-878E8E1C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F73E-09F2-417B-8BA6-9E45C197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EEDD-6A0C-4115-B600-0C6D3CFD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359-DBEC-46AA-91FF-29F2F460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420B-5177-45A7-8503-5E9959F2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4408-E0DC-4BA7-8122-5FFCA756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687C5-5345-42BD-A1AA-E64D1A71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8929-8127-4C3A-8625-76BC2050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036E7-6AA3-4F4D-980B-F6762234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2EE1-7903-45FC-95A2-08A31007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CDCA-CB40-49AB-8ADD-9FFC964A9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E1D-E820-4712-BF5A-5D59B0FD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7C97-83D0-423D-ABDE-1B17A90B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CF5-306B-4CFB-B087-E4CEDF8A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6CD-9732-4FDD-AE14-82BC7F92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85B-F3F5-40CF-B008-C9BFA647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A39D-CFA0-4B08-B82E-295DB640D5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545f67"/>
                </a:gs>
                <a:gs pos="100000">
                  <a:srgbClr val="b6cdd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prstGeom prst="pie">
              <a:avLst/>
            </a:prstGeom>
            <a:gradFill rotWithShape="0">
              <a:gsLst>
                <a:gs pos="0">
                  <a:srgbClr val="545f67"/>
                </a:gs>
                <a:gs pos="50000">
                  <a:srgbClr val="b6cdde"/>
                </a:gs>
                <a:gs pos="100000">
                  <a:srgbClr val="545f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b6c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424b59"/>
                </a:gs>
                <a:gs pos="100000">
                  <a:srgbClr val="8ea1c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545f67"/>
                      </a:gs>
                      <a:gs pos="100000">
                        <a:srgbClr val="b6cdde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b6cdde"/>
                      </a:gs>
                      <a:gs pos="100000">
                        <a:srgbClr val="545f67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prstGeom prst="pie">
                  <a:avLst/>
                </a:prstGeom>
                <a:gradFill rotWithShape="0">
                  <a:gsLst>
                    <a:gs pos="0">
                      <a:srgbClr val="545f67"/>
                    </a:gs>
                    <a:gs pos="100000">
                      <a:srgbClr val="b6cdde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545f67"/>
                    </a:gs>
                    <a:gs pos="5000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prstGeom prst="pi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6cdde"/>
                    </a:gs>
                    <a:gs pos="100000">
                      <a:srgbClr val="545f6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6F98-5FAA-4E17-A416-14DA28ABD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8"/>
          <p:cNvSpPr/>
          <p:nvPr/>
        </p:nvSpPr>
        <p:spPr>
          <a:xfrm>
            <a:off x="1214280" y="2071800"/>
            <a:ext cx="7929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стема образо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составная часть социально-экономического разви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орода Снежинс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Прямоугольник 3"/>
          <p:cNvSpPr/>
          <p:nvPr/>
        </p:nvSpPr>
        <p:spPr>
          <a:xfrm>
            <a:off x="3441240" y="5643720"/>
            <a:ext cx="544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ириллов Серей Владимирови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меститель главы администрации г. Снежин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1"/>
          <p:cNvSpPr/>
          <p:nvPr/>
        </p:nvSpPr>
        <p:spPr>
          <a:xfrm>
            <a:off x="1357200" y="1375920"/>
            <a:ext cx="7715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ые поощрения работников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0 педагогов школ и дошкольных образовательных учреждений получили премии-гранты городской администрации в размере от 5 до 10 тысяч 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педагогов получили премии по 5 тысяч рублей из муниципального бюджета за работу с одаренными детьми педагогическим работникам МО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педагогов получили гранты РФЯЦ ВНИИТФ (и за это большое спасибо Госкорпорации «Росатом» и РФЯЦ -ВНИИТФ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 педработников МДОУ получили премии по 5 000 и 10 000 рублей из городск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кращении штатной численности МОУ, содержащейся за счет средств местного бюджета, финансовые ресурсы остались в распоряжении ОУ и пошли на стимулирующие выплаты учителям, даже не смотря на общее сокращение нормативов на 1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ысканы средства на повышение з/п АУП МДОУ в сентябре-декабре 2011г. на 30 %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2"/>
          <p:cNvSpPr/>
          <p:nvPr/>
        </p:nvSpPr>
        <p:spPr>
          <a:xfrm>
            <a:off x="1979640" y="1500120"/>
            <a:ext cx="650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т зарплаты работников системы образования Снеж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00120" y="2682720"/>
          <a:ext cx="7358040" cy="1783080"/>
        </p:xfrm>
        <a:graphic>
          <a:graphicData uri="http://schemas.openxmlformats.org/drawingml/2006/table">
            <a:tbl>
              <a:tblPr/>
              <a:tblGrid>
                <a:gridCol w="1785960"/>
                <a:gridCol w="1228680"/>
                <a:gridCol w="1508040"/>
                <a:gridCol w="1090800"/>
                <a:gridCol w="1744560"/>
              </a:tblGrid>
              <a:tr h="622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 2012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 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8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1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 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"/>
          <p:cNvGraphicFramePr/>
          <p:nvPr/>
        </p:nvGraphicFramePr>
        <p:xfrm>
          <a:off x="1571760" y="2073240"/>
          <a:ext cx="7215120" cy="2895480"/>
        </p:xfrm>
        <a:graphic>
          <a:graphicData uri="http://schemas.openxmlformats.org/drawingml/2006/table">
            <a:tbl>
              <a:tblPr/>
              <a:tblGrid>
                <a:gridCol w="3619440"/>
                <a:gridCol w="3595680"/>
              </a:tblGrid>
              <a:tr h="61020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реализации основных напра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36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тизация системы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ачества образования на основе применения новых информационных технолог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1643040" y="2421000"/>
          <a:ext cx="7215120" cy="1682640"/>
        </p:xfrm>
        <a:graphic>
          <a:graphicData uri="http://schemas.openxmlformats.org/drawingml/2006/table">
            <a:tbl>
              <a:tblPr/>
              <a:tblGrid>
                <a:gridCol w="3619440"/>
                <a:gridCol w="3595680"/>
              </a:tblGrid>
              <a:tr h="64296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реализации основных напра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9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ершенствование форм воспитания школьни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естижа и роли классного руководи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" name=""/>
          <p:cNvGraphicFramePr/>
          <p:nvPr/>
        </p:nvGraphicFramePr>
        <p:xfrm>
          <a:off x="1643040" y="2643120"/>
          <a:ext cx="7215120" cy="1828800"/>
        </p:xfrm>
        <a:graphic>
          <a:graphicData uri="http://schemas.openxmlformats.org/drawingml/2006/table">
            <a:tbl>
              <a:tblPr/>
              <a:tblGrid>
                <a:gridCol w="3619440"/>
                <a:gridCol w="3595680"/>
              </a:tblGrid>
              <a:tr h="61020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реализации основных напра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держка системы дошкольно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повышения качества, охвата и перечня услуг дошкольного образ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1643040" y="2643120"/>
          <a:ext cx="7215120" cy="1828800"/>
        </p:xfrm>
        <a:graphic>
          <a:graphicData uri="http://schemas.openxmlformats.org/drawingml/2006/table">
            <a:tbl>
              <a:tblPr/>
              <a:tblGrid>
                <a:gridCol w="3619440"/>
                <a:gridCol w="3595680"/>
              </a:tblGrid>
              <a:tr h="610200"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реализации основных направлен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общественных институтов управления образовательными учреждения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ение широкой общественности в разработку образовательной полит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1928880" y="279900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ние условий для демографической ситуации в го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ние образовательного пространства, отвечающего вызова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1143000" y="353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оставная часть социально-экономического развития г. Снеж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4"/>
          <p:cNvSpPr/>
          <p:nvPr/>
        </p:nvSpPr>
        <p:spPr>
          <a:xfrm>
            <a:off x="1285920" y="17146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тегические направления развития системы образования г. Снежинска до 2020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12859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улучшения демографической ситуации в гор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1428840" y="1928880"/>
            <a:ext cx="7500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условий для улучшения демографической ситуации в город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обеспечение прироста населения, улучшение качества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28" name="TextBox 2"/>
          <p:cNvSpPr/>
          <p:nvPr/>
        </p:nvSpPr>
        <p:spPr>
          <a:xfrm>
            <a:off x="12859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улучшения демографической ситуации в гор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500120" y="1500120"/>
          <a:ext cx="7429680" cy="5143680"/>
        </p:xfrm>
        <a:graphic>
          <a:graphicData uri="http://schemas.openxmlformats.org/drawingml/2006/table">
            <a:tbl>
              <a:tblPr/>
              <a:tblGrid>
                <a:gridCol w="3995640"/>
                <a:gridCol w="3434040"/>
              </a:tblGrid>
              <a:tr h="490680"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реализации основных направ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зада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Реализация программы «Здоровый ребенок», направленной на улучшение здоровья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кращение пропусков дней детьми по болезн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троительство новых, реконструкция и капитальный ремонт существующих детских садов (в том числе в рамках областной программы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овых мест в дошкольном образов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12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Расширение доступности, охвата спектра услуг дошко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ачества дошко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Материальная поддержка семей, содержащих детей в детском саду (в том числе за счет федеральной и областной компенсаци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детей в детские са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Материальная поддержка работников сферы дошкольного образования (в том числе за счет областного бюджет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влечение работников в сферу дошкольного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2280" marR="62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1476360" y="1916280"/>
          <a:ext cx="7430760" cy="873000"/>
        </p:xfrm>
        <a:graphic>
          <a:graphicData uri="http://schemas.openxmlformats.org/drawingml/2006/table">
            <a:tbl>
              <a:tblPr/>
              <a:tblGrid>
                <a:gridCol w="1415520"/>
                <a:gridCol w="1159560"/>
                <a:gridCol w="1231920"/>
                <a:gridCol w="1232280"/>
                <a:gridCol w="1153080"/>
                <a:gridCol w="1238400"/>
              </a:tblGrid>
              <a:tr h="37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ль 2012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даем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1"/>
          <p:cNvSpPr/>
          <p:nvPr/>
        </p:nvSpPr>
        <p:spPr>
          <a:xfrm>
            <a:off x="1403280" y="1188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ведения о рождаемости за период с 2008 г. по июль 2012 г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Box 4"/>
          <p:cNvSpPr/>
          <p:nvPr/>
        </p:nvSpPr>
        <p:spPr>
          <a:xfrm>
            <a:off x="12859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здание условий для улучшения демографической ситуации в город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050920" y="2924280"/>
          <a:ext cx="6050160" cy="360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0920" y="2924280"/>
                    <a:ext cx="605016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"/>
          <p:cNvSpPr/>
          <p:nvPr/>
        </p:nvSpPr>
        <p:spPr>
          <a:xfrm>
            <a:off x="1928880" y="279900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ние условий для демографической ситуации в го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ние образовательного пространства, отвечающего вызова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3"/>
          <p:cNvSpPr/>
          <p:nvPr/>
        </p:nvSpPr>
        <p:spPr>
          <a:xfrm>
            <a:off x="1143000" y="353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оставная часть социально-экономического развития г. Снеж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1285920" y="17146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тегические направления развития системы образования г. Снежинска до 2020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1"/>
          <p:cNvSpPr/>
          <p:nvPr/>
        </p:nvSpPr>
        <p:spPr>
          <a:xfrm>
            <a:off x="1928880" y="2799000"/>
            <a:ext cx="6572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здание условий для демографической ситуации в город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оздание образовательного пространства, отвечающего вызовам време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1143000" y="353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оставная часть социально-экономического развития г. Снеж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1285920" y="1714680"/>
            <a:ext cx="785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тегические направления развития системы образования г. Снежинска до 2020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12859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здание образовательного пространства, отвечающего вызовам 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Box 4"/>
          <p:cNvSpPr/>
          <p:nvPr/>
        </p:nvSpPr>
        <p:spPr>
          <a:xfrm>
            <a:off x="1428840" y="1928880"/>
            <a:ext cx="750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ние образовательного пространства, отвечающего вызовам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оздание силами всего образовательного пространства имиджа города высокого качества жиз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2"/>
          <p:cNvSpPr/>
          <p:nvPr/>
        </p:nvSpPr>
        <p:spPr>
          <a:xfrm>
            <a:off x="1285920" y="42876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оздание образовательного пространства, отвечающего вызовам времен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428840" y="1285920"/>
          <a:ext cx="7358040" cy="5500800"/>
        </p:xfrm>
        <a:graphic>
          <a:graphicData uri="http://schemas.openxmlformats.org/drawingml/2006/table">
            <a:tbl>
              <a:tblPr/>
              <a:tblGrid>
                <a:gridCol w="3678120"/>
                <a:gridCol w="3679920"/>
              </a:tblGrid>
              <a:tr h="458640"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реализации основных напр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вращение ДООЦ «Орленок» в круглогодичный центр отдыха, оздоровления и досуга детей и граждан горо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отдыха и оздоровления граж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840"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а базе МУК, ММЦ центров по предпрофессиональной подготовке учащихся и по комплексному решению задач научно-методического управления образовательной систем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ка выпускников к выбору профессий, потребность в которых имеется в городе, области, стран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280"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овых типов образовательных учреждений: «начальная школа», «детский сад -начальная школа» и д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тимизация сети и структуры образовательных учре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на базе Дворца пионеров общегородского Центра творческого и интеллектуального развития детей и молоде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занятости детей и подростков во внеурочное врем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7640"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 модели сетевого взаимодействия общеобразовательных школ при реализации профильн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ние экономических, материальных, кадровых ресурсов системы образования с целью достижения каче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1143000" y="353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оставная часть социально-экономического развития г. Снеж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68800" y="3660840"/>
            <a:ext cx="476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"/>
          <p:cNvSpPr/>
          <p:nvPr/>
        </p:nvSpPr>
        <p:spPr>
          <a:xfrm>
            <a:off x="1428840" y="1585800"/>
            <a:ext cx="75722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ование системы образования, ориентированной на обеспечение качества, доступности и эффектив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3"/>
          <p:cNvSpPr/>
          <p:nvPr/>
        </p:nvSpPr>
        <p:spPr>
          <a:xfrm>
            <a:off x="1143000" y="353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истема образова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ак составная часть социально-экономического развития г. Снежинс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3" name=""/>
          <p:cNvGraphicFramePr/>
          <p:nvPr/>
        </p:nvGraphicFramePr>
        <p:xfrm>
          <a:off x="1643040" y="1285920"/>
          <a:ext cx="7215120" cy="5506920"/>
        </p:xfrm>
        <a:graphic>
          <a:graphicData uri="http://schemas.openxmlformats.org/drawingml/2006/table">
            <a:tbl>
              <a:tblPr/>
              <a:tblGrid>
                <a:gridCol w="3608280"/>
                <a:gridCol w="3606840"/>
              </a:tblGrid>
              <a:tr h="426960"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реализации основных направ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онкурсы среди образовательных учреждений, внедряющих инновационные програм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бщение и распространение передового инновационного опыта деятельности шк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Конкурсы среди педагогических работников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естижа профессии педаго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оддержка способной и талантливой молодеж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крытие, поддержка и развитие способностей учащих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Укрепление и развитие материально-технической базы образовательных учрежд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организации учебно-воспитательного процесса, отвечающего современным требов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Информатизация системы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качества образования на основе применения новых информацион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вершенствование форм воспитания школь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естижа и роли классного руководи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оддержка системы дошко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здание условий для повышения качества, охвата и перечня услуг дошкольного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Создание общественных институтов управления образовательными учреждени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400" rIns="50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влечение широкой общественности в разработку образовате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400" marR="50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pic>
        <p:nvPicPr>
          <p:cNvPr id="176" name="Диаграмма 4" descr=""/>
          <p:cNvPicPr/>
          <p:nvPr/>
        </p:nvPicPr>
        <p:blipFill>
          <a:blip r:embed="rId2"/>
          <a:stretch/>
        </p:blipFill>
        <p:spPr>
          <a:xfrm>
            <a:off x="1494000" y="1779480"/>
            <a:ext cx="7296120" cy="4445280"/>
          </a:xfrm>
          <a:prstGeom prst="rect">
            <a:avLst/>
          </a:prstGeom>
          <a:ln w="0">
            <a:noFill/>
          </a:ln>
        </p:spPr>
      </p:pic>
      <p:sp>
        <p:nvSpPr>
          <p:cNvPr id="177" name="TextBox 5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142884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инансирование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pic>
        <p:nvPicPr>
          <p:cNvPr id="180" name="Object 6" descr=""/>
          <p:cNvPicPr/>
          <p:nvPr/>
        </p:nvPicPr>
        <p:blipFill>
          <a:blip r:embed="rId2"/>
          <a:stretch/>
        </p:blipFill>
        <p:spPr>
          <a:xfrm>
            <a:off x="1279440" y="1706400"/>
            <a:ext cx="7871040" cy="44452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6"/>
          <p:cNvSpPr/>
          <p:nvPr/>
        </p:nvSpPr>
        <p:spPr>
          <a:xfrm>
            <a:off x="142884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Финансирование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643040" y="6000840"/>
            <a:ext cx="75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 2007г. по 2012г. финансирование нац. проекта «Образование» составило 10 896 млн.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4"/>
          <p:cNvSpPr/>
          <p:nvPr/>
        </p:nvSpPr>
        <p:spPr>
          <a:xfrm>
            <a:off x="1428840" y="15001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Финансирование социальной сферы гор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Диаграмма 6" descr=""/>
          <p:cNvPicPr/>
          <p:nvPr/>
        </p:nvPicPr>
        <p:blipFill>
          <a:blip r:embed="rId2"/>
          <a:stretch/>
        </p:blipFill>
        <p:spPr>
          <a:xfrm>
            <a:off x="1311120" y="2352600"/>
            <a:ext cx="4052880" cy="22986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7"/>
          <p:cNvSpPr/>
          <p:nvPr/>
        </p:nvSpPr>
        <p:spPr>
          <a:xfrm>
            <a:off x="2000160" y="2000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0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6500880" y="2000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1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Диаграмма 9" descr=""/>
          <p:cNvPicPr/>
          <p:nvPr/>
        </p:nvPicPr>
        <p:blipFill>
          <a:blip r:embed="rId3"/>
          <a:stretch/>
        </p:blipFill>
        <p:spPr>
          <a:xfrm>
            <a:off x="5327640" y="2352600"/>
            <a:ext cx="3822840" cy="22986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0"/>
          <p:cNvSpPr/>
          <p:nvPr/>
        </p:nvSpPr>
        <p:spPr>
          <a:xfrm>
            <a:off x="4286160" y="44290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Диаграмма 11" descr=""/>
          <p:cNvPicPr/>
          <p:nvPr/>
        </p:nvPicPr>
        <p:blipFill>
          <a:blip r:embed="rId4"/>
          <a:stretch/>
        </p:blipFill>
        <p:spPr>
          <a:xfrm>
            <a:off x="3224160" y="4705200"/>
            <a:ext cx="4140360" cy="2159280"/>
          </a:xfrm>
          <a:prstGeom prst="rect">
            <a:avLst/>
          </a:prstGeom>
          <a:ln w="0">
            <a:noFill/>
          </a:ln>
        </p:spPr>
      </p:pic>
      <p:sp>
        <p:nvSpPr>
          <p:cNvPr id="192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194" name="Прямоугольник 4"/>
          <p:cNvSpPr/>
          <p:nvPr/>
        </p:nvSpPr>
        <p:spPr>
          <a:xfrm>
            <a:off x="1874880" y="1500120"/>
            <a:ext cx="676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зменение размера заработной платы работников обра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3880" y="2239920"/>
          <a:ext cx="7405920" cy="3546360"/>
        </p:xfrm>
        <a:graphic>
          <a:graphicData uri="http://schemas.openxmlformats.org/drawingml/2006/table">
            <a:tbl>
              <a:tblPr/>
              <a:tblGrid>
                <a:gridCol w="1189080"/>
                <a:gridCol w="968400"/>
                <a:gridCol w="1106640"/>
                <a:gridCol w="1106280"/>
                <a:gridCol w="968400"/>
                <a:gridCol w="1098720"/>
                <a:gridCol w="968400"/>
              </a:tblGrid>
              <a:tr h="819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ое полугодие 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з/плата в отрас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471,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 678,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 197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 65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 736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54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з/плата учите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 14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 380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 097,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 49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 216,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 06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з/плата в дошкольном образова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 65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 48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 250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 60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 307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 05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a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6" descr="герб"/>
          <p:cNvPicPr/>
          <p:nvPr/>
        </p:nvPicPr>
        <p:blipFill>
          <a:blip r:embed="rId1"/>
          <a:stretch/>
        </p:blipFill>
        <p:spPr>
          <a:xfrm>
            <a:off x="214200" y="214200"/>
            <a:ext cx="8661600" cy="100800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7"/>
          <p:cNvSpPr/>
          <p:nvPr/>
        </p:nvSpPr>
        <p:spPr>
          <a:xfrm>
            <a:off x="1384560" y="1643040"/>
            <a:ext cx="77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Информация о средней заработной плате учителей Челябин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35040" y="2149560"/>
          <a:ext cx="7323120" cy="4306680"/>
        </p:xfrm>
        <a:graphic>
          <a:graphicData uri="http://schemas.openxmlformats.org/drawingml/2006/table">
            <a:tbl>
              <a:tblPr/>
              <a:tblGrid>
                <a:gridCol w="1733760"/>
                <a:gridCol w="1925640"/>
                <a:gridCol w="1831680"/>
                <a:gridCol w="1832040"/>
              </a:tblGrid>
              <a:tr h="1097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муниципального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заработная плата за 1 квартал 2012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з/плата учителей за июнь 2012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яя з/плата за 2 квартал 2012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гаповский м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……………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 233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 443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 266,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еуфалей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580, 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769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906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ыштым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315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905,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725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 272,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 711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 695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неж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 826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 367,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 550,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хгор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 503,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 82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303,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лябин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218,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699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 966,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TextBox 3"/>
          <p:cNvSpPr/>
          <p:nvPr/>
        </p:nvSpPr>
        <p:spPr>
          <a:xfrm>
            <a:off x="1285920" y="428760"/>
            <a:ext cx="75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ационального проекта «Образование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1T05:22:45Z</dcterms:created>
  <dc:creator>Игорь</dc:creator>
  <dc:description/>
  <dc:language>en-US</dc:language>
  <cp:lastModifiedBy>Eremeeva</cp:lastModifiedBy>
  <dcterms:modified xsi:type="dcterms:W3CDTF">2012-08-27T09:46:48Z</dcterms:modified>
  <cp:revision>55</cp:revision>
  <dc:subject/>
  <dc:title>ЭМОЦИОНАЛЬНЫЕ И ВОЛЕВЫЕ ПРОЦЕССЫ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