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11E-B03A-414A-BC72-B734192D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EF6-63DE-4ECF-839D-279A9F8A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4A5-6871-4711-B1A1-708BD490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457-D4C5-45D5-832E-23057C4E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D2E-3D61-4FF7-A3E1-592CAD55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12B-9660-4F5C-B0B5-AE92BA8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50A-D62A-4638-870E-C76E3931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FE5-9CE2-413A-A502-29B33254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825-B531-4667-8672-DDA6F3B1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9FC-E947-4BE1-9715-CBD7A50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5A5-E56C-4FDE-9F73-D6329CF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3C7-2A9E-4EFC-BB27-93DD42A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4432-2117-4E6C-8272-BED87A8CF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28800" y="157176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достижения планируемых результатов освоения основной общеобразовательной программы начального общего образования в первом классе (с использованием учебно-методического комплекта «Учусь учиться: русский язы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071960" y="4643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пышева Людмила Николаевн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.п.н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 кафедры начального образования ГОУ ДПО ЧИППК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14240" y="1071720"/>
            <a:ext cx="79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комендации по оценке работы включены формы представления результатов двух уровней: для учителя, д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чителя – журнал достижений, который вклю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ы для определения итоговой оценки по каждой процед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для определения итоговой накопленной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чащихся – портфоли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ладыш «Мои достиже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аровози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04800" y="692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остиг повышен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4800" y="270828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остиг базов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486900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 достиг базов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88800" y="2133720"/>
            <a:ext cx="849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88800" y="4437000"/>
            <a:ext cx="849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76440" y="335772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успеха, возможность продолжения образования на протяжении всей жизни, положительный результ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1280" y="5445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а корректировка педаг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76440" y="148428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в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42960" y="785880"/>
            <a:ext cx="77868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19.9. Система оценки достижения планируемых результатов освоения основной общеобразовательной программы начального общего образования долж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закреплять основные направления и цели оценочной деятельности, описание объекта и содержание оценки, критерии, процедуры и состав инструментария оценивания, формы представления результатов, условия и границы применения системы 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риентировать образовательный процесс на духовно-нравственное развитие и воспитание обучающихся, достижение планируемых результатов освоения содержания учебных предметов начального общего образования и формирование универсальных учебных 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714240" y="1000080"/>
            <a:ext cx="764388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обеспечить комплексный подход к оценке результатов освоения основной образовательной программы начального общего образования, позволяющий вести оценку предметных, метапредметных и личностных результатов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редусматривать оценку достижений обучающихся (итоговая оценка обучающихся, освоивших основную образовательную программу начального общего образования) и оценку эффективности деятельности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позволять осуществлять оценку динамики учебных достижений обучающихс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712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закреплять основны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и оценоч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пис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оцен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ит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ав инструментария оцени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ы представления результ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слов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аницы применения системы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28800" y="1214280"/>
            <a:ext cx="757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в комплекте учитывается, что при оценке результатов освоения ООП обучающимися на современном этапе контрольно-оценочная деятельность педагога должна реализовывать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 двух направлен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 традиционно проверять уровень достижения учащимися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 включать младшего школьника в контрольно-оценочную деятельность с целью формирования у него универсальных учебных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85880" y="107172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я безотметочного оценивания является необходимы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слов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ализации системы оценки достижений планируемых результатов освоения ООП, обеспечивающей оценку динамики достижения обучающихся и формирования у них действий контроля и 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357200"/>
            <a:ext cx="78584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ценки выступает учебная деятельность младшего 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ценки определено в соответствии с Фундаментальным ядром содержания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85880" y="1214280"/>
            <a:ext cx="764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и оценочной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 клас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динамики достижения обучающихся планируемых результатов освоения основной образовательной программы началь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освоения учащимися действий контроля и оценки свое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итериальной баз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и выступают результаты освоения основной образовательной программы начального общего образования – личностные, метапредметные и предмет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57160" y="1000080"/>
            <a:ext cx="7572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оговая оценка определяется на основе накопительной системы оценки, которая предусматривает проведение ря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цеду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роведение единичных тренинговых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етроспективная самооценка выполнения тренинговых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роведение стандартизированных проверочных работ по обучению грамоте (с использованием приема «Праздник успеха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Комплексная итоговая проверка достижения планируемых результатов по русскому я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. При проектировании системы оценки достижения планируемых результатов освоения ООП список процедур может быть дополнен образовательным учреждением в соответствии с реализуемыми авторскими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40:58Z</dcterms:created>
  <dc:creator>Ho</dc:creator>
  <dc:description/>
  <dc:language>en-US</dc:language>
  <cp:lastModifiedBy>Ho</cp:lastModifiedBy>
  <dcterms:modified xsi:type="dcterms:W3CDTF">2010-11-01T21:44:18Z</dcterms:modified>
  <cp:revision>22</cp:revision>
  <dc:subject/>
  <dc:title>Слайд 1</dc:title>
</cp:coreProperties>
</file>