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309-533F-4FC0-A141-E114170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090-A084-4439-A4A4-3C2E6E0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780-6A22-41AC-B670-30F35AC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5D-08A3-44E1-BAE9-756058E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02B-E4D1-4B2A-958F-2569CEEF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6EBC-2D50-4924-8C7D-8203811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A77-CDE1-4B3C-B1C4-45193D34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BC17-008E-494E-B6D8-2AC8E39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3C84-81B4-450C-96AA-AAC578D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254-CCE4-4E07-BA40-8052E092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232C-516F-48D2-A5A3-F4A15B3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74E-5A57-4E7B-B361-D499B56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A879-ECCC-4DE7-8A7B-6022725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5BF8-22F2-4873-B743-D20FBD0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A6B-0B24-4D05-908D-CFBBE5A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A273-B74D-4AD0-A56A-C5C16716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BCD-0C44-43D4-9F6F-9EFB148E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EAE-3D06-4B86-9813-DC1CD76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92D-32D8-44C4-AF09-EED5BB1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0D0-613C-4A93-BDFD-A61E528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7D7-3B9F-4282-8D51-FEDFE5D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0FE-B393-4780-83CC-147D82F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D25-E969-49DC-AC00-DCEE2FC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885-D43C-4246-9175-F7D5D4D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1CCB-CA5A-4AB1-B478-0EAAC65C52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E35-BB4B-4769-BA4F-7E8D539835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4;&#1094;&#1077;&#1085;&#1082;&#1072;%20&#1076;&#1086;&#1089;&#1090;&#1080;&#1078;&#1077;&#1085;&#1080;&#1103;%20&#1055;&#1056;.doc" TargetMode="Externa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66680" y="1447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ьного общего образов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57600" y="3962520"/>
            <a:ext cx="510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пышева Людмила Николае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цент  кафедры начального образования ГОУ ДПО ЧИППКРО, к.п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09480" y="6094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e600"/>
                </a:solidFill>
                <a:latin typeface="Arial"/>
              </a:rPr>
              <a:t>Модели оценочной деятельности: процед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457200" y="1981080"/>
            <a:ext cx="8458200" cy="3765600"/>
            <a:chOff x="457200" y="1981080"/>
            <a:chExt cx="8458200" cy="3765600"/>
          </a:xfrm>
        </p:grpSpPr>
        <p:sp>
          <p:nvSpPr>
            <p:cNvPr id="143" name="Rectangle 6"/>
            <p:cNvSpPr/>
            <p:nvPr/>
          </p:nvSpPr>
          <p:spPr>
            <a:xfrm>
              <a:off x="533520" y="1981080"/>
              <a:ext cx="3544920" cy="160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be600"/>
                  </a:solidFill>
                  <a:latin typeface="Arial"/>
                </a:rPr>
                <a:t>ВНУТРЕННЯЯ ОЦЕНКА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итель, ученик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бразовательное учреждение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одит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5230800" y="1981080"/>
              <a:ext cx="2976480" cy="677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be600"/>
                  </a:solidFill>
                  <a:latin typeface="Arial"/>
                </a:rPr>
                <a:t>ВНЕШНЯЯ ОЦЕНКА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осударственные служб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4114800" y="3451320"/>
              <a:ext cx="1979640" cy="1120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ттестация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пускник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6477120" y="3451320"/>
              <a:ext cx="2438280" cy="124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ониторинг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истема образ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6575400" y="2658960"/>
              <a:ext cx="0" cy="452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5230800" y="3111480"/>
              <a:ext cx="2495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5230800" y="3111480"/>
              <a:ext cx="0" cy="3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7726320" y="3111480"/>
              <a:ext cx="0" cy="3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457200" y="5181480"/>
              <a:ext cx="8064360" cy="565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e600"/>
                  </a:solidFill>
                  <a:latin typeface="Arial"/>
                </a:rPr>
                <a:t>Экспертные и объективизированные процеду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TextBox 12"/>
          <p:cNvSpPr/>
          <p:nvPr/>
        </p:nvSpPr>
        <p:spPr>
          <a:xfrm>
            <a:off x="58672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слайд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990720" y="533520"/>
            <a:ext cx="7696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i="1" lang="ru-RU" sz="2000" spc="-1" strike="noStrike">
                <a:solidFill>
                  <a:srgbClr val="ebe600"/>
                </a:solidFill>
                <a:latin typeface="Arial"/>
              </a:rPr>
              <a:t>личностными результатам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тандарте понимается становление самоопределения личности, включая развитие основ гражданской идентичности личности и формирование внутренней позиции школьника; развитие мотивов и смыслов учебно-образовательной деятельности; развитие системы ценностных ориентации выпускников начальной школы, в том числе морально-этической ориентации, отражающих их индивидуально-личностные позиции, социальные чувства и личностные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4419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нешние неперсонифицированные мониторинговые иссле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5800" y="68580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i="1" lang="ru-RU" sz="2000" spc="-1" strike="noStrike">
                <a:solidFill>
                  <a:srgbClr val="ebe600"/>
                </a:solidFill>
                <a:latin typeface="Arial"/>
              </a:rPr>
              <a:t>метапредметными результатам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имаю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ниверсальные способы деятельно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знавательные, коммуникативны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способы регуляции своей деятельности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ключая планирование, контроль и коррекцию. Универсальные способы деятельности осваиваются обучающимися на базе одного, нескольких или всех учебных предметов и применяются учащимися, как в рамках образовательного процесса, так и при решении проблем в реальных жизнен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90720" y="41148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ыполнение специально сконструированных диагностических раб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Инструментальная основа и условие успешности выполнения предметных раб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609480" y="60948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i="1" lang="ru-RU" sz="2000" spc="-1" strike="noStrike">
                <a:solidFill>
                  <a:srgbClr val="ebe600"/>
                </a:solidFill>
                <a:latin typeface="Arial"/>
              </a:rPr>
              <a:t>предметными результатам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тельной деятельности понимается освоенный обучающимися в ходе изучения учебного предмет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ыт специфической для данного предмета деятельности по получению нового знания, его преобразованию и применению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так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истема основополагающих элементов научного знания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жащая в основе современной научной картины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Итоговые провероч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 ходе текущего и промежуточного оценивания – накопительная система оц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5638680" y="56386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 слай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76212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be600"/>
                </a:solidFill>
                <a:uFillTx/>
                <a:latin typeface="Arial"/>
              </a:rPr>
              <a:t>На персонифицированную итоговую оценк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езультаты которой используются при принятии решения о возможности или невозможности продолжения обучения на следующей ступе­ни, в начальной школе вынося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олько предметные и метапредметные результаты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ные в разделе </a:t>
            </a:r>
            <a:r>
              <a:rPr b="1" lang="ru-RU" sz="2000" spc="-1" strike="noStrike">
                <a:solidFill>
                  <a:srgbClr val="ebe600"/>
                </a:solidFill>
                <a:latin typeface="Arial"/>
              </a:rPr>
              <a:t>«Выпускник научитс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ланируемых результатов начального общего обра­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e600"/>
                </a:solidFill>
                <a:latin typeface="Arial"/>
              </a:rPr>
              <a:t>Предметом итогов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ценки 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особность учащихся решать учебно-познавательные и учебно-практические задачи, построенные на материале опорной системы знаний с использованием средств, релевантных содержанию учебных предметов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ом числе на основе метапредметных дейст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ность к решению иного класса задач является предметом различного рода неперсонифицированных обследо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62120" y="609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e600"/>
                </a:solidFill>
                <a:latin typeface="Arial"/>
              </a:rPr>
              <a:t>Модели оценочной деятельности: внутренняя оц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622440" y="1184400"/>
            <a:ext cx="8216280" cy="4911480"/>
            <a:chOff x="622440" y="1184400"/>
            <a:chExt cx="8216280" cy="4911480"/>
          </a:xfrm>
        </p:grpSpPr>
        <p:grpSp>
          <p:nvGrpSpPr>
            <p:cNvPr id="163" name="Group 6"/>
            <p:cNvGrpSpPr/>
            <p:nvPr/>
          </p:nvGrpSpPr>
          <p:grpSpPr>
            <a:xfrm>
              <a:off x="622440" y="1184400"/>
              <a:ext cx="8216280" cy="4911480"/>
              <a:chOff x="622440" y="1184400"/>
              <a:chExt cx="8216280" cy="4911480"/>
            </a:xfrm>
          </p:grpSpPr>
          <p:sp>
            <p:nvSpPr>
              <p:cNvPr id="164" name="Rectangle 7"/>
              <p:cNvSpPr/>
              <p:nvPr/>
            </p:nvSpPr>
            <p:spPr>
              <a:xfrm>
                <a:off x="5187240" y="3990600"/>
                <a:ext cx="1551960" cy="40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Тематический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5187240" y="4592160"/>
                <a:ext cx="1551960" cy="40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ромежуточный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9"/>
              <p:cNvSpPr/>
              <p:nvPr/>
            </p:nvSpPr>
            <p:spPr>
              <a:xfrm>
                <a:off x="5187240" y="5193720"/>
                <a:ext cx="1643040" cy="40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тоговый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Group 10"/>
              <p:cNvGrpSpPr/>
              <p:nvPr/>
            </p:nvGrpSpPr>
            <p:grpSpPr>
              <a:xfrm>
                <a:off x="622440" y="1184400"/>
                <a:ext cx="8216280" cy="4911480"/>
                <a:chOff x="622440" y="1184400"/>
                <a:chExt cx="8216280" cy="4911480"/>
              </a:xfrm>
            </p:grpSpPr>
            <p:sp>
              <p:nvSpPr>
                <p:cNvPr id="168" name="Oval 11"/>
                <p:cNvSpPr/>
                <p:nvPr/>
              </p:nvSpPr>
              <p:spPr>
                <a:xfrm>
                  <a:off x="622440" y="5594760"/>
                  <a:ext cx="1643040" cy="501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ffffff"/>
                      </a:solidFill>
                      <a:latin typeface="Arial"/>
                    </a:rPr>
                    <a:t>Стартовая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2"/>
                <p:cNvSpPr/>
                <p:nvPr/>
              </p:nvSpPr>
              <p:spPr>
                <a:xfrm>
                  <a:off x="2630880" y="5594760"/>
                  <a:ext cx="1460520" cy="501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ffffff"/>
                      </a:solidFill>
                      <a:latin typeface="Arial"/>
                    </a:rPr>
                    <a:t>Текущая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Group 13"/>
                <p:cNvGrpSpPr/>
                <p:nvPr/>
              </p:nvGrpSpPr>
              <p:grpSpPr>
                <a:xfrm>
                  <a:off x="622440" y="1184400"/>
                  <a:ext cx="8216280" cy="3908880"/>
                  <a:chOff x="622440" y="1184400"/>
                  <a:chExt cx="8216280" cy="3908880"/>
                </a:xfrm>
              </p:grpSpPr>
              <p:sp>
                <p:nvSpPr>
                  <p:cNvPr id="171" name="Oval 14"/>
                  <p:cNvSpPr/>
                  <p:nvPr/>
                </p:nvSpPr>
                <p:spPr>
                  <a:xfrm>
                    <a:off x="713520" y="4592160"/>
                    <a:ext cx="1734480" cy="400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ffff"/>
                        </a:solidFill>
                        <a:latin typeface="Arial"/>
                      </a:rPr>
                      <a:t>Диагностика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5"/>
                  <p:cNvSpPr/>
                  <p:nvPr/>
                </p:nvSpPr>
                <p:spPr>
                  <a:xfrm>
                    <a:off x="3269880" y="4592160"/>
                    <a:ext cx="1551960" cy="501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ffff"/>
                        </a:solidFill>
                        <a:latin typeface="Arial"/>
                      </a:rPr>
                      <a:t>Срез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6"/>
                  <p:cNvGrpSpPr/>
                  <p:nvPr/>
                </p:nvGrpSpPr>
                <p:grpSpPr>
                  <a:xfrm>
                    <a:off x="622440" y="1184400"/>
                    <a:ext cx="8216280" cy="3106800"/>
                    <a:chOff x="622440" y="1184400"/>
                    <a:chExt cx="8216280" cy="3106800"/>
                  </a:xfrm>
                </p:grpSpPr>
                <p:sp>
                  <p:nvSpPr>
                    <p:cNvPr id="174" name="Oval 17"/>
                    <p:cNvSpPr/>
                    <p:nvPr/>
                  </p:nvSpPr>
                  <p:spPr>
                    <a:xfrm>
                      <a:off x="622440" y="3288960"/>
                      <a:ext cx="1460520" cy="400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Oval 18"/>
                    <p:cNvSpPr/>
                    <p:nvPr/>
                  </p:nvSpPr>
                  <p:spPr>
                    <a:xfrm>
                      <a:off x="2539440" y="3188880"/>
                      <a:ext cx="2099880" cy="1102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намика: индивидуа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е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" name="Group 19"/>
                    <p:cNvGrpSpPr/>
                    <p:nvPr/>
                  </p:nvGrpSpPr>
                  <p:grpSpPr>
                    <a:xfrm>
                      <a:off x="1536840" y="1184400"/>
                      <a:ext cx="7301880" cy="2204640"/>
                      <a:chOff x="1536840" y="1184400"/>
                      <a:chExt cx="7301880" cy="2204640"/>
                    </a:xfrm>
                  </p:grpSpPr>
                  <p:sp>
                    <p:nvSpPr>
                      <p:cNvPr id="177" name="Line 20"/>
                      <p:cNvSpPr/>
                      <p:nvPr/>
                    </p:nvSpPr>
                    <p:spPr>
                      <a:xfrm>
                        <a:off x="5552280" y="2787840"/>
                        <a:ext cx="0" cy="1000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8" name="Group 21"/>
                      <p:cNvGrpSpPr/>
                      <p:nvPr/>
                    </p:nvGrpSpPr>
                    <p:grpSpPr>
                      <a:xfrm>
                        <a:off x="1536840" y="1184400"/>
                        <a:ext cx="7301880" cy="2204640"/>
                        <a:chOff x="1536840" y="1184400"/>
                        <a:chExt cx="7301880" cy="2204640"/>
                      </a:xfrm>
                    </p:grpSpPr>
                    <p:sp>
                      <p:nvSpPr>
                        <p:cNvPr id="179" name="Oval 22"/>
                        <p:cNvSpPr/>
                        <p:nvPr/>
                      </p:nvSpPr>
                      <p:spPr>
                        <a:xfrm>
                          <a:off x="4730400" y="2888280"/>
                          <a:ext cx="1643040" cy="400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Самооценка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Oval 23"/>
                        <p:cNvSpPr/>
                        <p:nvPr/>
                      </p:nvSpPr>
                      <p:spPr>
                        <a:xfrm>
                          <a:off x="7013160" y="2888280"/>
                          <a:ext cx="1825560" cy="50076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Взаимооценка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1" name="Group 24"/>
                        <p:cNvGrpSpPr/>
                        <p:nvPr/>
                      </p:nvGrpSpPr>
                      <p:grpSpPr>
                        <a:xfrm>
                          <a:off x="1536840" y="1184400"/>
                          <a:ext cx="6664680" cy="1302480"/>
                          <a:chOff x="1536840" y="1184400"/>
                          <a:chExt cx="6664680" cy="1302480"/>
                        </a:xfrm>
                      </p:grpSpPr>
                      <p:sp>
                        <p:nvSpPr>
                          <p:cNvPr id="182" name="Rectangle 25"/>
                          <p:cNvSpPr/>
                          <p:nvPr/>
                        </p:nvSpPr>
                        <p:spPr>
                          <a:xfrm>
                            <a:off x="3271320" y="1184400"/>
                            <a:ext cx="3012480" cy="40068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1400" spc="-1" strike="noStrike">
                                <a:solidFill>
                                  <a:srgbClr val="ebe600"/>
                                </a:solidFill>
                                <a:latin typeface="Arial"/>
                              </a:rPr>
                              <a:t>ВНУТРЕННЯЯ ОЦЕНКА</a:t>
                            </a:r>
                            <a:endPara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3" name="Rectangle 26"/>
                          <p:cNvSpPr/>
                          <p:nvPr/>
                        </p:nvSpPr>
                        <p:spPr>
                          <a:xfrm>
                            <a:off x="1536840" y="2086200"/>
                            <a:ext cx="2282400" cy="40068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1400" spc="-1" strike="noStrike">
                                <a:solidFill>
                                  <a:srgbClr val="ebe600"/>
                                </a:solidFill>
                                <a:latin typeface="Arial"/>
                              </a:rPr>
                              <a:t>ОЦЕНКА УЧИТЕЛЯ</a:t>
                            </a:r>
                            <a:endPara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4" name="Rectangle 27"/>
                          <p:cNvSpPr/>
                          <p:nvPr/>
                        </p:nvSpPr>
                        <p:spPr>
                          <a:xfrm>
                            <a:off x="5645160" y="2086200"/>
                            <a:ext cx="2556360" cy="40068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1400" spc="-1" strike="noStrike">
                                <a:solidFill>
                                  <a:srgbClr val="ebe600"/>
                                </a:solidFill>
                                <a:latin typeface="Arial"/>
                              </a:rPr>
                              <a:t>ОЦЕНКА УЧЕНИКА</a:t>
                            </a:r>
                            <a:endPara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5" name="Line 28"/>
                          <p:cNvSpPr/>
                          <p:nvPr/>
                        </p:nvSpPr>
                        <p:spPr>
                          <a:xfrm>
                            <a:off x="4731840" y="1585080"/>
                            <a:ext cx="0" cy="3006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6" name="Line 29"/>
                          <p:cNvSpPr/>
                          <p:nvPr/>
                        </p:nvSpPr>
                        <p:spPr>
                          <a:xfrm>
                            <a:off x="3179880" y="1885680"/>
                            <a:ext cx="31039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7" name="Line 30"/>
                          <p:cNvSpPr/>
                          <p:nvPr/>
                        </p:nvSpPr>
                        <p:spPr>
                          <a:xfrm>
                            <a:off x="3179880" y="1885680"/>
                            <a:ext cx="0" cy="200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8" name="Line 31"/>
                          <p:cNvSpPr/>
                          <p:nvPr/>
                        </p:nvSpPr>
                        <p:spPr>
                          <a:xfrm>
                            <a:off x="6284160" y="1885680"/>
                            <a:ext cx="0" cy="200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9" name="Line 32"/>
                        <p:cNvSpPr/>
                        <p:nvPr/>
                      </p:nvSpPr>
                      <p:spPr>
                        <a:xfrm>
                          <a:off x="6739200" y="2487240"/>
                          <a:ext cx="0" cy="3006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33"/>
                        <p:cNvSpPr/>
                        <p:nvPr/>
                      </p:nvSpPr>
                      <p:spPr>
                        <a:xfrm>
                          <a:off x="5552280" y="2787840"/>
                          <a:ext cx="23734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34"/>
                        <p:cNvSpPr/>
                        <p:nvPr/>
                      </p:nvSpPr>
                      <p:spPr>
                        <a:xfrm>
                          <a:off x="7926120" y="2787840"/>
                          <a:ext cx="0" cy="1000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2" name="Line 35"/>
                    <p:cNvSpPr/>
                    <p:nvPr/>
                  </p:nvSpPr>
                  <p:spPr>
                    <a:xfrm>
                      <a:off x="2356920" y="2487240"/>
                      <a:ext cx="0" cy="50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36"/>
                    <p:cNvSpPr/>
                    <p:nvPr/>
                  </p:nvSpPr>
                  <p:spPr>
                    <a:xfrm>
                      <a:off x="1352520" y="2988360"/>
                      <a:ext cx="219096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37"/>
                    <p:cNvSpPr/>
                    <p:nvPr/>
                  </p:nvSpPr>
                  <p:spPr>
                    <a:xfrm>
                      <a:off x="1352520" y="2988360"/>
                      <a:ext cx="0" cy="3006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38"/>
                    <p:cNvSpPr/>
                    <p:nvPr/>
                  </p:nvSpPr>
                  <p:spPr>
                    <a:xfrm>
                      <a:off x="3543840" y="2988360"/>
                      <a:ext cx="0" cy="2001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Line 39"/>
                  <p:cNvSpPr/>
                  <p:nvPr/>
                </p:nvSpPr>
                <p:spPr>
                  <a:xfrm>
                    <a:off x="1443960" y="3690000"/>
                    <a:ext cx="0" cy="7012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40"/>
                  <p:cNvSpPr/>
                  <p:nvPr/>
                </p:nvSpPr>
                <p:spPr>
                  <a:xfrm>
                    <a:off x="1170000" y="4391640"/>
                    <a:ext cx="273888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41"/>
                  <p:cNvSpPr/>
                  <p:nvPr/>
                </p:nvSpPr>
                <p:spPr>
                  <a:xfrm>
                    <a:off x="1170000" y="4391640"/>
                    <a:ext cx="0" cy="2001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2"/>
                  <p:cNvSpPr/>
                  <p:nvPr/>
                </p:nvSpPr>
                <p:spPr>
                  <a:xfrm>
                    <a:off x="3908880" y="4391640"/>
                    <a:ext cx="0" cy="2001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Line 43"/>
                <p:cNvSpPr/>
                <p:nvPr/>
              </p:nvSpPr>
              <p:spPr>
                <a:xfrm>
                  <a:off x="1443960" y="4993200"/>
                  <a:ext cx="0" cy="601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4"/>
                <p:cNvSpPr/>
                <p:nvPr/>
              </p:nvSpPr>
              <p:spPr>
                <a:xfrm>
                  <a:off x="1991520" y="4993200"/>
                  <a:ext cx="1004040" cy="601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Line 45"/>
              <p:cNvSpPr/>
              <p:nvPr/>
            </p:nvSpPr>
            <p:spPr>
              <a:xfrm>
                <a:off x="4822200" y="4792680"/>
                <a:ext cx="3650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46"/>
              <p:cNvSpPr/>
              <p:nvPr/>
            </p:nvSpPr>
            <p:spPr>
              <a:xfrm>
                <a:off x="5004720" y="4191480"/>
                <a:ext cx="0" cy="1202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5004720" y="4191480"/>
                <a:ext cx="182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48"/>
            <p:cNvSpPr/>
            <p:nvPr/>
          </p:nvSpPr>
          <p:spPr>
            <a:xfrm>
              <a:off x="5004720" y="5394240"/>
              <a:ext cx="182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533520" y="914400"/>
            <a:ext cx="815328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оль и оценка знаний –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 средство установления того, как учащийся усваивает программный материал, как продвигается в своем развитии по годам обуч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) структурные компоненты учеб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) качественная характеристика усвоения учебного матери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) процесс сравнения достигнутого учащимися уровня владения ими с эталонными представлениями, описанными в учебной програм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) учебные действия с действиями, обеспечивающие рефлексивное развитие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609480" y="762120"/>
            <a:ext cx="6096240" cy="4572000"/>
            <a:chOff x="609480" y="762120"/>
            <a:chExt cx="6096240" cy="4572000"/>
          </a:xfrm>
        </p:grpSpPr>
        <p:grpSp>
          <p:nvGrpSpPr>
            <p:cNvPr id="208" name="Group 5"/>
            <p:cNvGrpSpPr/>
            <p:nvPr/>
          </p:nvGrpSpPr>
          <p:grpSpPr>
            <a:xfrm>
              <a:off x="609480" y="2286000"/>
              <a:ext cx="2438280" cy="1523880"/>
              <a:chOff x="609480" y="2286000"/>
              <a:chExt cx="2438280" cy="1523880"/>
            </a:xfrm>
          </p:grpSpPr>
          <p:sp>
            <p:nvSpPr>
              <p:cNvPr id="209" name="Rectangle 6"/>
              <p:cNvSpPr/>
              <p:nvPr/>
            </p:nvSpPr>
            <p:spPr>
              <a:xfrm>
                <a:off x="609480" y="2286000"/>
                <a:ext cx="2438280" cy="762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Контрол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3048120"/>
                <a:ext cx="2438280" cy="76176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ценк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8"/>
            <p:cNvSpPr/>
            <p:nvPr/>
          </p:nvSpPr>
          <p:spPr>
            <a:xfrm>
              <a:off x="3048120" y="2133720"/>
              <a:ext cx="1143000" cy="17524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438120 h 1752480"/>
                <a:gd name="textAreaBottom" fmla="*/ 13143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2666880" y="762120"/>
              <a:ext cx="3886200" cy="137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адиционный подхо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819520" y="3962520"/>
              <a:ext cx="3886200" cy="137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ормирование  УУ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(безотметочное обучени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4"/>
          <p:cNvGrpSpPr/>
          <p:nvPr/>
        </p:nvGrpSpPr>
        <p:grpSpPr>
          <a:xfrm>
            <a:off x="685800" y="685800"/>
            <a:ext cx="8153280" cy="838080"/>
            <a:chOff x="685800" y="685800"/>
            <a:chExt cx="8153280" cy="838080"/>
          </a:xfrm>
        </p:grpSpPr>
        <p:sp>
          <p:nvSpPr>
            <p:cNvPr id="215" name="Rectangle 5"/>
            <p:cNvSpPr/>
            <p:nvPr/>
          </p:nvSpPr>
          <p:spPr>
            <a:xfrm>
              <a:off x="685800" y="685800"/>
              <a:ext cx="335268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ниверс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чебные дейст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5029200" y="685800"/>
              <a:ext cx="380988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истема контроля и оцен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038480" y="106668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 Box 8"/>
          <p:cNvSpPr/>
          <p:nvPr/>
        </p:nvSpPr>
        <p:spPr>
          <a:xfrm>
            <a:off x="685800" y="1905120"/>
            <a:ext cx="81532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29"/>
                </a:solidFill>
                <a:latin typeface="Arial"/>
              </a:rPr>
              <a:t>Регулятивные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оль, коррекция, оц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29"/>
                </a:solidFill>
                <a:latin typeface="Arial"/>
              </a:rPr>
              <a:t>Познавательные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флексия способов и условий действия, контроль и оценка процесса и результатов дея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29"/>
                </a:solidFill>
                <a:latin typeface="Arial"/>
              </a:rPr>
              <a:t>Коммуникативные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 поведением партнера – контроль, коррекция, оценка его дейст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29"/>
                </a:solidFill>
                <a:latin typeface="Arial"/>
              </a:rPr>
              <a:t>Личностные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-этическая ориент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676520" y="914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e600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990720" y="1905120"/>
            <a:ext cx="76197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ка детских работ – формальных и творческ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тизированные материалы наблю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ы, характеризующие достижения учащихся во внеучебной (школьной и внешкольной) и досугов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5257800" y="5638680"/>
            <a:ext cx="266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8 слайд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533520" y="609480"/>
            <a:ext cx="8076600" cy="3505320"/>
            <a:chOff x="533520" y="609480"/>
            <a:chExt cx="8076600" cy="3505320"/>
          </a:xfrm>
        </p:grpSpPr>
        <p:sp>
          <p:nvSpPr>
            <p:cNvPr id="101" name="Rectangle 5"/>
            <p:cNvSpPr/>
            <p:nvPr/>
          </p:nvSpPr>
          <p:spPr>
            <a:xfrm>
              <a:off x="2696760" y="609480"/>
              <a:ext cx="3389400" cy="1447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29"/>
                  </a:solidFill>
                  <a:latin typeface="Arial"/>
                </a:rPr>
                <a:t>Федеральный компонен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29"/>
                  </a:solidFill>
                  <a:latin typeface="Arial"/>
                </a:rPr>
                <a:t>государственног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29"/>
                  </a:solidFill>
                  <a:latin typeface="Arial"/>
                </a:rPr>
                <a:t>образовательног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29"/>
                  </a:solidFill>
                  <a:latin typeface="Arial"/>
                </a:rPr>
                <a:t>стандарта</a:t>
              </a:r>
              <a:r>
                <a:rPr b="1" lang="en-US" sz="2000" spc="-1" strike="noStrike">
                  <a:solidFill>
                    <a:srgbClr val="ffff29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29"/>
                  </a:solidFill>
                  <a:latin typeface="Arial"/>
                </a:rPr>
                <a:t>(2004 год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5365080" y="2819520"/>
              <a:ext cx="3245040" cy="12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бщие учебные умения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выки  и способы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533520" y="2895480"/>
              <a:ext cx="331704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ные знания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ения и компетен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3345840" y="205740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5797800" y="2057400"/>
              <a:ext cx="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685800" y="4572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905120" y="4724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включалось в систему внешнего контроля и оцен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6019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т ли УУД контролироваться и оценивать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84360" y="4046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обенность ФГОС второго поколения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еленность стандартов и регулируемого ими учебного процесса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 достижение результа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11280" y="1773360"/>
            <a:ext cx="82818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результа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УД и опорная система зн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умения учи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видуальный прогресс в основных сферах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324000" y="3500280"/>
            <a:ext cx="8424720" cy="2087640"/>
            <a:chOff x="324000" y="3500280"/>
            <a:chExt cx="8424720" cy="2087640"/>
          </a:xfrm>
        </p:grpSpPr>
        <p:sp>
          <p:nvSpPr>
            <p:cNvPr id="112" name="Oval 7"/>
            <p:cNvSpPr/>
            <p:nvPr/>
          </p:nvSpPr>
          <p:spPr>
            <a:xfrm>
              <a:off x="1835280" y="3500280"/>
              <a:ext cx="496872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АНИРУЕМЫЕ РЕЗУЛЬТА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(П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24000" y="4834080"/>
              <a:ext cx="3240000" cy="753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ЕТАПРЕДМЕ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940360" y="4834080"/>
              <a:ext cx="2808360" cy="753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10"/>
            <p:cNvSpPr/>
            <p:nvPr/>
          </p:nvSpPr>
          <p:spPr>
            <a:xfrm>
              <a:off x="6156360" y="4354560"/>
              <a:ext cx="144360" cy="514440"/>
            </a:xfrm>
            <a:prstGeom prst="downArrow">
              <a:avLst>
                <a:gd name="adj1" fmla="val 50000"/>
                <a:gd name="adj2" fmla="val 8909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11"/>
            <p:cNvSpPr/>
            <p:nvPr/>
          </p:nvSpPr>
          <p:spPr>
            <a:xfrm>
              <a:off x="2556000" y="4365720"/>
              <a:ext cx="144360" cy="514080"/>
            </a:xfrm>
            <a:prstGeom prst="downArrow">
              <a:avLst>
                <a:gd name="adj1" fmla="val 50000"/>
                <a:gd name="adj2" fmla="val 8902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Rectangle 12"/>
          <p:cNvSpPr/>
          <p:nvPr/>
        </p:nvSpPr>
        <p:spPr>
          <a:xfrm>
            <a:off x="2124000" y="5589720"/>
            <a:ext cx="532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ешняя оценка - монитор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685800" y="609480"/>
            <a:ext cx="784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 системы оценки результатов освоения обще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вторский коллектив: Ковалева Г.С. (руководитель), Красновский Э.А., Краснянская К.А., Логинова О.Б., Татур А.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26668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e600"/>
                </a:solidFill>
                <a:latin typeface="Arial"/>
              </a:rPr>
              <a:t>Модель формирования системы оценки результатов освоения обще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04920" y="3733920"/>
            <a:ext cx="8305560" cy="2590560"/>
            <a:chOff x="304920" y="3733920"/>
            <a:chExt cx="8305560" cy="2590560"/>
          </a:xfrm>
        </p:grpSpPr>
        <p:sp>
          <p:nvSpPr>
            <p:cNvPr id="121" name="Rectangle 7"/>
            <p:cNvSpPr/>
            <p:nvPr/>
          </p:nvSpPr>
          <p:spPr>
            <a:xfrm>
              <a:off x="304920" y="3733920"/>
              <a:ext cx="48006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ерационализация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ебова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4114800" y="5334120"/>
              <a:ext cx="449568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талонных зада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4724280" y="4572000"/>
              <a:ext cx="0" cy="7621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457200" y="0"/>
            <a:ext cx="7848720" cy="6400800"/>
            <a:chOff x="457200" y="0"/>
            <a:chExt cx="7848720" cy="6400800"/>
          </a:xfrm>
        </p:grpSpPr>
        <p:sp>
          <p:nvSpPr>
            <p:cNvPr id="125" name="Rectangle 5"/>
            <p:cNvSpPr/>
            <p:nvPr/>
          </p:nvSpPr>
          <p:spPr>
            <a:xfrm>
              <a:off x="457200" y="533520"/>
              <a:ext cx="4343400" cy="99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eb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кспериментальная проверк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стижения требова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828800" y="1981080"/>
              <a:ext cx="38098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исание и уточн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ровней дости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2514600" y="3581280"/>
              <a:ext cx="5029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Формирование реалистичны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ритериев для оценки дости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ебова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3276720" y="5105520"/>
              <a:ext cx="50292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внешней и внутренне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ценки достижения требований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: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Arial"/>
                </a:rPr>
                <a:t>измерители, критерии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Arial"/>
                </a:rPr>
                <a:t>оценочные процеду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3733920" y="1523880"/>
              <a:ext cx="0" cy="457200"/>
            </a:xfrm>
            <a:prstGeom prst="line">
              <a:avLst/>
            </a:prstGeom>
            <a:ln w="76320">
              <a:solidFill>
                <a:srgbClr val="ebe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2819520" y="0"/>
              <a:ext cx="0" cy="533520"/>
            </a:xfrm>
            <a:prstGeom prst="line">
              <a:avLst/>
            </a:prstGeom>
            <a:ln w="76320">
              <a:solidFill>
                <a:srgbClr val="ebe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4952880" y="2895480"/>
              <a:ext cx="0" cy="685800"/>
            </a:xfrm>
            <a:prstGeom prst="line">
              <a:avLst/>
            </a:prstGeom>
            <a:ln w="76320">
              <a:solidFill>
                <a:srgbClr val="ebe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6095880" y="4648320"/>
              <a:ext cx="0" cy="457200"/>
            </a:xfrm>
            <a:prstGeom prst="line">
              <a:avLst/>
            </a:prstGeom>
            <a:ln w="76320">
              <a:solidFill>
                <a:srgbClr val="ebe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5800" y="762120"/>
            <a:ext cx="815328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e600"/>
                </a:solidFill>
                <a:latin typeface="Arial"/>
              </a:rPr>
              <a:t>Среди отличительных особенностей предлагаемой системы оценки следует особо выдел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9640" algn="just">
              <a:lnSpc>
                <a:spcPct val="110000"/>
              </a:lnSpc>
              <a:buClr>
                <a:srgbClr val="eb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комплексный подход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к оценке результатов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ния (оценка предметных, метапредметных и личностных результатов общего образ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9640"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цен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пешности освоения содержания отдельных учебных предметов </a:t>
            </a:r>
            <a:r>
              <a:rPr b="0" lang="ru-RU" sz="2400" spc="-1" strike="noStrike">
                <a:solidFill>
                  <a:srgbClr val="ebe600"/>
                </a:solidFill>
                <a:latin typeface="Arial"/>
              </a:rPr>
              <a:t>на основе системно-деятельност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хода, проявляющегося в способности к выполнению учебно-практических и учебно-познавательных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9640"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400" spc="-1" strike="noStrike">
                <a:solidFill>
                  <a:srgbClr val="ebe600"/>
                </a:solidFill>
                <a:latin typeface="Arial"/>
              </a:rPr>
              <a:t>планируемых результат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своения основных образовательных программ в качестве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содержательной </a:t>
            </a:r>
            <a:r>
              <a:rPr b="0" i="1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критериальной базы оценки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9640" algn="just">
              <a:lnSpc>
                <a:spcPct val="110000"/>
              </a:lnSpc>
              <a:buClr>
                <a:srgbClr val="eb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685800" y="762120"/>
            <a:ext cx="80010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eb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уровневый подход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разработке планируемых результатов, инструментария и представлению данных;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етание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внешней и внутренней оценк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еханизма обеспечения качества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персонифицированных процедур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лях итоговой оценки и аттестации обучающихся и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неперсонифицированных процедур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лях оценки состояния и тенденций развития системы образования, а также в иных аттестационных цел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оценка динамики образовательных достижени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09480" y="838080"/>
            <a:ext cx="80773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накопительной системы оценивания (портфолио)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зующей динамику индивидуальных образовательных дости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400" spc="-1" strike="noStrike">
                <a:solidFill>
                  <a:srgbClr val="ebe600"/>
                </a:solidFill>
                <a:latin typeface="Arial"/>
              </a:rPr>
              <a:t>наряду со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стандартизированными письменными или устными работам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х методов оценки, как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проекты, практические работы, творческие работы, самоанализ и самооценка, наблюдени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контекстной информа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666880" y="380880"/>
            <a:ext cx="350532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СИСТЕМА   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23880" y="1219320"/>
            <a:ext cx="61722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Arial"/>
              </a:rPr>
              <a:t>Содержательная и критериальная основ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ПЛАНИРУЕМЫЕ РЕЗУЛЬТ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219320" y="29718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14400" y="2666880"/>
            <a:ext cx="7705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e600"/>
                </a:solidFill>
                <a:latin typeface="Arial"/>
              </a:rPr>
              <a:t>Планируемые результа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точняют и конкретизируют Требования стандарта к результатам освоения основных образовательных программ для каждого учебного предмета с учетом </a:t>
            </a:r>
            <a:r>
              <a:rPr b="0" i="1" lang="ru-RU" sz="2400" spc="-1" strike="noStrike">
                <a:solidFill>
                  <a:srgbClr val="ebe600"/>
                </a:solidFill>
                <a:latin typeface="Arial"/>
              </a:rPr>
              <a:t>ведущих целевых установок изучения данного предмета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также с учето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зрастной специф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410080" y="58672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айд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</dc:creator>
  <dc:description/>
  <dc:language>en-US</dc:language>
  <cp:lastModifiedBy>Ho</cp:lastModifiedBy>
  <dcterms:modified xsi:type="dcterms:W3CDTF">2010-11-08T19:55:43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