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D66-BA45-42EB-807D-027CD83B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AAE-97F4-4E81-AC4F-627D45E3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344-A926-435B-A22B-E7C91958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DDB-E998-4254-B5A4-222F323D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433-DF51-4E35-A9D6-C144ABC9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40B-CEFA-4704-A514-EF9B5CBF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591-4588-4B76-ACB7-B9B8A21D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FE0-77A9-46C4-9EDC-D4E09F25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431-6428-4569-9454-ABA86DC8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E91-BB3A-4F4D-95C3-E2BC0D27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BD9-E46A-47CA-8BA4-9B2EF6B3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C6E-CFE4-4547-A083-9CE5AEF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04F3-31FC-40FB-B943-A17991355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40;&#1085;&#1072;&#1083;&#1080;&#1079;%20&#1091;&#1095;&#1077;&#1073;&#1085;&#1080;&#1082;&#1086;&#1074;.doc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&#1052;&#1072;&#1090;&#1077;&#1088;&#1080;&#1072;&#1083;&#1099;%20&#1076;&#1083;&#1103;%20&#1087;&#1088;&#1072;&#1082;&#1090;_&#1088;&#1072;&#1073;&#1086;&#1090;&#1099;%202/&#1060;&#1043;&#1058;%20&#1076;&#1086;&#1096;&#1082;&#1086;&#1083;&#1100;&#1085;&#1080;&#1082;&#1086;&#1074;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857160" y="785880"/>
            <a:ext cx="7358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я разрабо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 формирования универсальных учебных действий у обучающихся на ступени началь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71920" y="407196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пышева Людмила Никола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цент кафедры начального образования ГОУ ДПО ЧИППКРО, к.п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4449960" y="3244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143000" y="714240"/>
            <a:ext cx="728676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.4. Программа формирования универсальных учебных действий у обучающихся на ступени начального общего образования должна содерж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ценностных ориентиров содержания образования на ступени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связь универсальных учебных действий с содержанием учебных предмет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стики личностных, регулятивных, познавательных, коммуникативных универсальных учебных действий 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типовые задачи формир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х, регулятивных, познавательных, коммуникативных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универсальных учебных действ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преемственности программы формирования универсальных учебных действий при переходе от дошкольного к начальному образ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14240" y="642960"/>
            <a:ext cx="78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Типовая задач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857160" y="1285920"/>
            <a:ext cx="771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овые задачи формирования универсальных учебных действий на основе УМК «Перспектива» конструируются учителем на основании следующих общих подход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Структура задачи. Любая задача, предназначенная для развития и/или оценки уровня сформированности УУД   (личностных, регулятивных, познавательных и коммуникативных) предполагает осуществление субъектом (в свёрнутом или развёрнутом виде) следующих навыков: ознакомление-понимание – применение – анализ – синтез -оц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бщем виде задача состоит из информационного блока и серии вопросов (практических заданий) к не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Требования к задачам. Для того, чтобы задачи, предназначенные для оценки тех или иных УУД, были валидными, надёжными и объективными, они должны бы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оставлены в соответствии с требованиями, предъявляемыми к тестовым заданиям в це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609480" y="838080"/>
            <a:ext cx="80773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звит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процесс закономерного изменения, перехода из одного состояния в другое, более соверше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цен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процесс сравнения достигнутого учащимися уровня владения ими с эталонными представлен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Формирование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процесс развития и становления под влиянием внешних воздействий воспитания, обучения, социально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714240" y="876240"/>
            <a:ext cx="7643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. 347. …  Умение находить глаголы в речи. «Найди глаголы. Как будешь действовать? …  Выпиши глаголы, напиши вопросы к ним. Сделай вывод о том, какими частями речи могут быть однокоренные слова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Управляющая кнопка: справка 2"/>
          <p:cNvSpPr/>
          <p:nvPr/>
        </p:nvSpPr>
        <p:spPr>
          <a:xfrm>
            <a:off x="609480" y="3071880"/>
            <a:ext cx="928800" cy="107136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1071360"/>
              <a:gd name="textAreaBottom" fmla="*/ 1011240 h 1071360"/>
            </a:gdLst>
            <a:ahLst/>
            <a:rect l="textAreaLeft" t="textAreaTop" r="textAreaRight" b="textAreaBottom"/>
            <a:pathLst>
              <a:path w="21600" h="24914">
                <a:moveTo>
                  <a:pt x="0" y="0"/>
                </a:moveTo>
                <a:lnTo>
                  <a:pt x="21600" y="0"/>
                </a:lnTo>
                <a:lnTo>
                  <a:pt x="21600" y="24914"/>
                </a:lnTo>
                <a:lnTo>
                  <a:pt x="0" y="24914"/>
                </a:lnTo>
                <a:close/>
              </a:path>
              <a:path fill="lightenLess" w="21600" h="24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4">
                <a:moveTo>
                  <a:pt x="21600" y="0"/>
                </a:moveTo>
                <a:lnTo>
                  <a:pt x="21600" y="24914"/>
                </a:lnTo>
                <a:lnTo>
                  <a:pt x="20200" y="23514"/>
                </a:lnTo>
                <a:lnTo>
                  <a:pt x="20200" y="1400"/>
                </a:lnTo>
                <a:close/>
              </a:path>
              <a:path fill="darkenLess" w="21600" h="24914">
                <a:moveTo>
                  <a:pt x="21600" y="24914"/>
                </a:moveTo>
                <a:lnTo>
                  <a:pt x="0" y="24914"/>
                </a:lnTo>
                <a:lnTo>
                  <a:pt x="1400" y="23514"/>
                </a:lnTo>
                <a:lnTo>
                  <a:pt x="20200" y="23514"/>
                </a:lnTo>
                <a:close/>
              </a:path>
              <a:path fill="lighten" w="21600" h="24914">
                <a:moveTo>
                  <a:pt x="0" y="24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4"/>
                </a:lnTo>
                <a:close/>
              </a:path>
              <a:path fill="darken" w="21600" h="24914">
                <a:moveTo>
                  <a:pt x="10800" y="164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914">
                <a:moveTo>
                  <a:pt x="11905" y="15939"/>
                </a:moveTo>
                <a:lnTo>
                  <a:pt x="11905" y="13980"/>
                </a:lnTo>
                <a:cubicBezTo>
                  <a:pt x="11905" y="13153"/>
                  <a:pt x="12236" y="12457"/>
                  <a:pt x="12837" y="12457"/>
                </a:cubicBezTo>
                <a:cubicBezTo>
                  <a:pt x="13968" y="12457"/>
                  <a:pt x="14865" y="11091"/>
                  <a:pt x="14865" y="9506"/>
                </a:cubicBezTo>
                <a:cubicBezTo>
                  <a:pt x="14865" y="7191"/>
                  <a:pt x="13011" y="5451"/>
                  <a:pt x="10800" y="5451"/>
                </a:cubicBezTo>
                <a:cubicBezTo>
                  <a:pt x="8589" y="5451"/>
                  <a:pt x="6918" y="7191"/>
                  <a:pt x="6918" y="9506"/>
                </a:cubicBezTo>
                <a:lnTo>
                  <a:pt x="8772" y="9506"/>
                </a:lnTo>
                <a:cubicBezTo>
                  <a:pt x="8772" y="8366"/>
                  <a:pt x="9695" y="7479"/>
                  <a:pt x="10800" y="7479"/>
                </a:cubicBezTo>
                <a:cubicBezTo>
                  <a:pt x="11905" y="7479"/>
                  <a:pt x="12837" y="8366"/>
                  <a:pt x="12837" y="9506"/>
                </a:cubicBezTo>
                <a:cubicBezTo>
                  <a:pt x="12837" y="10246"/>
                  <a:pt x="12367" y="10977"/>
                  <a:pt x="11905" y="10977"/>
                </a:cubicBezTo>
                <a:cubicBezTo>
                  <a:pt x="10800" y="10977"/>
                  <a:pt x="9695" y="12457"/>
                  <a:pt x="9695" y="13980"/>
                </a:cubicBezTo>
                <a:lnTo>
                  <a:pt x="9695" y="15939"/>
                </a:lnTo>
                <a:close/>
              </a:path>
            </a:pathLst>
          </a:custGeom>
          <a:solidFill>
            <a:srgbClr val="eeece1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905120" y="3276720"/>
            <a:ext cx="635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тивность  авторских програм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ктическое использование ООП НО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образова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785880" y="1143000"/>
          <a:ext cx="7643880" cy="42051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3357360"/>
                <a:gridCol w="2000520"/>
              </a:tblGrid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Вид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Состав-ля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182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Типовые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65040" indent="763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Связь с учебными предмет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84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NewtonCSanPin-Regular"/>
                        </a:rPr>
                        <a:t>Регуля-тив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Целеп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1825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NewtonCSanPin-Regular"/>
                        </a:rPr>
                        <a:t>Постановка учебной задачи (выход учащихся  в коллективно-распределенной деятельности на новую задачу через «интеллектуальный конфликт»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NewtonCSanPin-Regular"/>
                        </a:rPr>
                        <a:t>Индивидуальное целеполагание на этапе контроля и работы над причинами ошиб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65040" indent="763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NewtonCSanPin-Regular"/>
                        </a:rPr>
                        <a:t>Учебные предметы (наиболее важны уроки русского языка и математи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785880" y="64296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егулятивные универсальные учебны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928800" y="21430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еспечивают учащимся организацию их учеб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71680" y="364320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полагание ― планирование ― прогнозирование ― контроль ― коррекция ― оценка ―   саморег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857160" y="642960"/>
            <a:ext cx="75726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Целепола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черкните зеленым цветом те орфограммы, которые вам уже извес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проблемной ситуации.  Запишите слова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еник, медведь, тетрадь, заяц, ребят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е из слов лишнее? Почему?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у будем учиться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500040" y="60948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ащиеся читают стихотворение, записанное на доск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Обратите внимание на выделенные слова. Что общего есть в этих словах? (Это прилагательные. Их объединяет общее значение, один род и одно числ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 какие отличия и почему? (Отличия состоят в том, что прилагательные имеют разные окончания т. к. прилагательные употреблены в разных падежах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Ориентируясь на эти прилагательные, учитывая их отличия, сформулируйте тему нашего урока. (Прилагательные имеют разные окончания т.к. стоят в разных падежах, значит тема нашего урок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“Склонение имен прилагательных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авильно. Теперь, используя опорную запись, сформулируйте цел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вторить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ить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учиться…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т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ша це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торить знания об имени прилагательном. Составить памятку (алгоритм) определения падежа у имен прилагательных. Научиться определять падеж у имен прилагательных, используя памят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928800" y="857160"/>
            <a:ext cx="7500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ериод обучения грамоте детям объясняется, при каких условиях пишутся разделительные Ъ и Ь (ребята узнают, что они на письме обозначают [й']), но как выбрать букву не объясняется. Ребенок до середины второго класса пишет буквенную дробь вороб(ь/ъ)и. Затем ребятам дается задание выбрать букву. Дети знают о своем незнании, поэтому цель они уже могут (и главное хотят) поставить: «Мне нужно узнать, когда нужно писать разделительный Ъ, а когда разделительный 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928800" y="928800"/>
            <a:ext cx="7429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ям предлагается вставить пропущенные букв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лов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_сник, гр_бник, ветк_ 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ята могут объяснить первые два случая, а в последнем слове видели разные варианты (веткИ и ветк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928800" y="3286080"/>
            <a:ext cx="764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ая задача – это такая задача, решая которую дети открывают наиболее общий способ действия для целого класса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ой целеполагания является контроль и оц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609480" y="4572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 основной образовательной программы начального общего образования определяется  в п. 16  Федерального государственного образовательного стандар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пояснительная запи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планируемые результаты освоения обучающимися  основной образовательной программы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учебный план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программа формирования универсальных учебных действий у обучающихся на ступени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программы отдельных предметов, кур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программа духовно-нравственного развития, воспитания обучающихся на ступени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) программа формирования культуры здорового и безопасного образа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) программа коррекцион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) система оценки достижения планируемых результатов освоения основной образовательной программы начального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143000" y="64296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иемы, формирующие действия контроля и оценки у младшего шк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14400" y="160020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>
              <a:lnSpc>
                <a:spcPct val="12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успех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троспективная самооце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ментирование устных отв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ное реценз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с образц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с алгоритм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«Научи мен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ем «Проверь себ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ностическая самооце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невник достиж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бкая система балльной оце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28760" y="785880"/>
            <a:ext cx="8143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*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Расставь в квадратиках цифры так, чтобы получился алгоритм проверки безударных гласных в пристав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, есть ли в слове безударные звуки [а],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, в какой части слова находится безударный гл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авь уда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авь нужную бук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безударный гласный в приставке, вспомни написание этой прист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85880" y="2428920"/>
          <a:ext cx="7643880" cy="8222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3357360"/>
                <a:gridCol w="2000520"/>
              </a:tblGrid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Вид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Состав-ля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182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Типовые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65040" indent="763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Связь с учебными предмет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Управляющая кнопка: документ 2"/>
          <p:cNvSpPr/>
          <p:nvPr/>
        </p:nvSpPr>
        <p:spPr>
          <a:xfrm>
            <a:off x="857160" y="1071720"/>
            <a:ext cx="785880" cy="100008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1000080"/>
              <a:gd name="textAreaBottom" fmla="*/ 949320 h 1000080"/>
            </a:gdLst>
            <a:ahLst/>
            <a:rect l="textAreaLeft" t="textAreaTop" r="textAreaRight" b="textAreaBottom"/>
            <a:pathLst>
              <a:path w="21600" h="27485">
                <a:moveTo>
                  <a:pt x="0" y="0"/>
                </a:moveTo>
                <a:lnTo>
                  <a:pt x="21600" y="0"/>
                </a:lnTo>
                <a:lnTo>
                  <a:pt x="21600" y="27485"/>
                </a:lnTo>
                <a:lnTo>
                  <a:pt x="0" y="27485"/>
                </a:lnTo>
                <a:close/>
              </a:path>
              <a:path fill="lightenLess" w="21600" h="274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5">
                <a:moveTo>
                  <a:pt x="21600" y="0"/>
                </a:moveTo>
                <a:lnTo>
                  <a:pt x="21600" y="27485"/>
                </a:lnTo>
                <a:lnTo>
                  <a:pt x="20200" y="26085"/>
                </a:lnTo>
                <a:lnTo>
                  <a:pt x="20200" y="1400"/>
                </a:lnTo>
                <a:close/>
              </a:path>
              <a:path fill="darkenLess" w="21600" h="27485">
                <a:moveTo>
                  <a:pt x="21600" y="27485"/>
                </a:moveTo>
                <a:lnTo>
                  <a:pt x="0" y="27485"/>
                </a:lnTo>
                <a:lnTo>
                  <a:pt x="1400" y="26085"/>
                </a:lnTo>
                <a:lnTo>
                  <a:pt x="20200" y="26085"/>
                </a:lnTo>
                <a:close/>
              </a:path>
              <a:path fill="lighten" w="21600" h="27485">
                <a:moveTo>
                  <a:pt x="0" y="274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5"/>
                </a:lnTo>
                <a:close/>
              </a:path>
              <a:path fill="darkenLess" w="21600" h="27485">
                <a:moveTo>
                  <a:pt x="5273" y="6927"/>
                </a:moveTo>
                <a:lnTo>
                  <a:pt x="12271" y="6927"/>
                </a:lnTo>
                <a:lnTo>
                  <a:pt x="16327" y="10426"/>
                </a:lnTo>
                <a:lnTo>
                  <a:pt x="16327" y="20557"/>
                </a:lnTo>
                <a:lnTo>
                  <a:pt x="5273" y="20557"/>
                </a:lnTo>
                <a:close/>
              </a:path>
              <a:path fill="darken" w="21600" h="27485">
                <a:moveTo>
                  <a:pt x="12271" y="6927"/>
                </a:moveTo>
                <a:lnTo>
                  <a:pt x="16327" y="10426"/>
                </a:lnTo>
                <a:lnTo>
                  <a:pt x="12271" y="1042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785880" y="78588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оммуникативные универсальные учебны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785880" y="1928880"/>
            <a:ext cx="8001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вают социальную компетентность и учет позиции других людей, партнеров по общению или деятельности; умение слушать и вступать в диалог; участвовать в коллективном обсуждении проблем; интегрироваться в группу сверстников и строить продуктивное взаимодействие и сотрудничество со сверстниками и взросл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857160" y="435780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ициативное сотрудничество и взаимодействие – Планирование учебного сотрудничества – Управление коммуникаци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000080" y="571680"/>
            <a:ext cx="73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Планируем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Учебное сотрудничество и групповая (парная) работа: одно и тож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Типовы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документ 2"/>
          <p:cNvSpPr/>
          <p:nvPr/>
        </p:nvSpPr>
        <p:spPr>
          <a:xfrm>
            <a:off x="500040" y="500040"/>
            <a:ext cx="428760" cy="7142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714240"/>
              <a:gd name="textAreaBottom" fmla="*/ 686520 h 714240"/>
            </a:gdLst>
            <a:ahLst/>
            <a:rect l="textAreaLeft" t="textAreaTop" r="textAreaRight" b="textAreaBottom"/>
            <a:pathLst>
              <a:path w="21600" h="35970">
                <a:moveTo>
                  <a:pt x="0" y="0"/>
                </a:moveTo>
                <a:lnTo>
                  <a:pt x="21600" y="0"/>
                </a:lnTo>
                <a:lnTo>
                  <a:pt x="21600" y="35970"/>
                </a:lnTo>
                <a:lnTo>
                  <a:pt x="0" y="35970"/>
                </a:lnTo>
                <a:close/>
              </a:path>
              <a:path fill="lightenLess" w="21600" h="359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70">
                <a:moveTo>
                  <a:pt x="21600" y="0"/>
                </a:moveTo>
                <a:lnTo>
                  <a:pt x="21600" y="35970"/>
                </a:lnTo>
                <a:lnTo>
                  <a:pt x="20200" y="34570"/>
                </a:lnTo>
                <a:lnTo>
                  <a:pt x="20200" y="1400"/>
                </a:lnTo>
                <a:close/>
              </a:path>
              <a:path fill="darkenLess" w="21600" h="35970">
                <a:moveTo>
                  <a:pt x="21600" y="35970"/>
                </a:moveTo>
                <a:lnTo>
                  <a:pt x="0" y="35970"/>
                </a:lnTo>
                <a:lnTo>
                  <a:pt x="1400" y="34570"/>
                </a:lnTo>
                <a:lnTo>
                  <a:pt x="20200" y="34570"/>
                </a:lnTo>
                <a:close/>
              </a:path>
              <a:path fill="lighten" w="21600" h="35970">
                <a:moveTo>
                  <a:pt x="0" y="3597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70"/>
                </a:lnTo>
                <a:close/>
              </a:path>
              <a:path fill="darkenLess" w="21600" h="35970">
                <a:moveTo>
                  <a:pt x="5273" y="11170"/>
                </a:moveTo>
                <a:lnTo>
                  <a:pt x="12271" y="11170"/>
                </a:lnTo>
                <a:lnTo>
                  <a:pt x="16327" y="14669"/>
                </a:lnTo>
                <a:lnTo>
                  <a:pt x="16327" y="24800"/>
                </a:lnTo>
                <a:lnTo>
                  <a:pt x="5273" y="24800"/>
                </a:lnTo>
                <a:close/>
              </a:path>
              <a:path fill="darken" w="21600" h="35970">
                <a:moveTo>
                  <a:pt x="12271" y="11170"/>
                </a:moveTo>
                <a:lnTo>
                  <a:pt x="16327" y="14669"/>
                </a:lnTo>
                <a:lnTo>
                  <a:pt x="12271" y="1466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14240" y="3035160"/>
          <a:ext cx="7643880" cy="8226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3357720"/>
                <a:gridCol w="2000160"/>
              </a:tblGrid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Вид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Состав-ля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182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Типовые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65040" indent="763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Связь с учебными предмет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785880" y="42876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знавательные универсальные учебны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1071720" y="2000160"/>
            <a:ext cx="76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учебные – Логические – Знаково-символические – Информацио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071720" y="3143160"/>
            <a:ext cx="735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Планируем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Анализ действующих учебник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Типовы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Управляющая кнопка: документ 4"/>
          <p:cNvSpPr/>
          <p:nvPr/>
        </p:nvSpPr>
        <p:spPr>
          <a:xfrm>
            <a:off x="500040" y="3571920"/>
            <a:ext cx="428760" cy="7142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714240"/>
              <a:gd name="textAreaBottom" fmla="*/ 686520 h 714240"/>
            </a:gdLst>
            <a:ahLst/>
            <a:rect l="textAreaLeft" t="textAreaTop" r="textAreaRight" b="textAreaBottom"/>
            <a:pathLst>
              <a:path w="21600" h="35970">
                <a:moveTo>
                  <a:pt x="0" y="0"/>
                </a:moveTo>
                <a:lnTo>
                  <a:pt x="21600" y="0"/>
                </a:lnTo>
                <a:lnTo>
                  <a:pt x="21600" y="35970"/>
                </a:lnTo>
                <a:lnTo>
                  <a:pt x="0" y="35970"/>
                </a:lnTo>
                <a:close/>
              </a:path>
              <a:path fill="lightenLess" w="21600" h="359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70">
                <a:moveTo>
                  <a:pt x="21600" y="0"/>
                </a:moveTo>
                <a:lnTo>
                  <a:pt x="21600" y="35970"/>
                </a:lnTo>
                <a:lnTo>
                  <a:pt x="20200" y="34570"/>
                </a:lnTo>
                <a:lnTo>
                  <a:pt x="20200" y="1400"/>
                </a:lnTo>
                <a:close/>
              </a:path>
              <a:path fill="darkenLess" w="21600" h="35970">
                <a:moveTo>
                  <a:pt x="21600" y="35970"/>
                </a:moveTo>
                <a:lnTo>
                  <a:pt x="0" y="35970"/>
                </a:lnTo>
                <a:lnTo>
                  <a:pt x="1400" y="34570"/>
                </a:lnTo>
                <a:lnTo>
                  <a:pt x="20200" y="34570"/>
                </a:lnTo>
                <a:close/>
              </a:path>
              <a:path fill="lighten" w="21600" h="35970">
                <a:moveTo>
                  <a:pt x="0" y="3597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70"/>
                </a:lnTo>
                <a:close/>
              </a:path>
              <a:path fill="darkenLess" w="21600" h="35970">
                <a:moveTo>
                  <a:pt x="5273" y="11170"/>
                </a:moveTo>
                <a:lnTo>
                  <a:pt x="12271" y="11170"/>
                </a:lnTo>
                <a:lnTo>
                  <a:pt x="16327" y="14669"/>
                </a:lnTo>
                <a:lnTo>
                  <a:pt x="16327" y="24800"/>
                </a:lnTo>
                <a:lnTo>
                  <a:pt x="5273" y="24800"/>
                </a:lnTo>
                <a:close/>
              </a:path>
              <a:path fill="darken" w="21600" h="35970">
                <a:moveTo>
                  <a:pt x="12271" y="11170"/>
                </a:moveTo>
                <a:lnTo>
                  <a:pt x="16327" y="14669"/>
                </a:lnTo>
                <a:lnTo>
                  <a:pt x="12271" y="1466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71720" y="5072040"/>
          <a:ext cx="7643520" cy="8222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3357360"/>
                <a:gridCol w="2000160"/>
              </a:tblGrid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Вид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Состав-ля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182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Типовые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65040" indent="763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Связь с учебными предмет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914400" y="1447920"/>
            <a:ext cx="75438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Личностные планируемые результаты освоение ООП Н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анализируйте    ФГОС  НОО, Фундаментальное ядро содержания образования  и  Планируемые результаты  начального 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шите  ПР  на основе трех документов по  следующей структу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ыслообра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равственно-этическ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Управляющая кнопка: документ 2"/>
          <p:cNvSpPr/>
          <p:nvPr/>
        </p:nvSpPr>
        <p:spPr>
          <a:xfrm>
            <a:off x="762120" y="4572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Less" w="21600" h="27006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6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85880" y="78588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ичностные универсальные учебны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928800" y="228600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ивают ценностно-смысловую ориентацию учащихся (знание моральных норм, умение соотносить поступки и события с принятыми этическими принципами, умение выделить нравственный аспект поведения) и ориентацию в социальных ролях и межличностных отнош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642960" y="1000080"/>
            <a:ext cx="7929720" cy="48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ительно к учебной деятельности следует выделить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три вида личностных действ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72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стное, профессиональное, жизненное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амоопределе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72720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мыслообразова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.е. установление учащимися связи между целью учебной деятельности и ее мотивом, другими словами, между результатом учения и тем, что побуждает деятельность, ради чего она осуществляется. Ученик должен задаваться вопросом: какое значение и какой смысл имеет для меня учение? – и уметь на него отвеч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72720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равственно-этическая ориентация,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ом числе и оценивание усваиваемого содержания (исходя из социальных и личностных ценностей), обеспечивающее личностный моральны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428760" y="714240"/>
            <a:ext cx="8072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определение  является ключевой задачей развития  в юношеском возра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 раннем возрасте  происходит формирование личности ребенка, подготавливающее успешность само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ладшем школьном возрасте  развиваются               Я-концепция,  основы  идентичности  (прежде всего социальной),  совершенствуется самооц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5"/>
          <p:cNvSpPr/>
          <p:nvPr/>
        </p:nvSpPr>
        <p:spPr>
          <a:xfrm>
            <a:off x="500040" y="4419720"/>
            <a:ext cx="833904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ТЕЛЬНЫЙ   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8"/>
          <p:cNvGrpSpPr/>
          <p:nvPr/>
        </p:nvGrpSpPr>
        <p:grpSpPr>
          <a:xfrm>
            <a:off x="457200" y="1371600"/>
            <a:ext cx="8410680" cy="1604880"/>
            <a:chOff x="457200" y="1371600"/>
            <a:chExt cx="8410680" cy="1604880"/>
          </a:xfrm>
        </p:grpSpPr>
        <p:grpSp>
          <p:nvGrpSpPr>
            <p:cNvPr id="46" name="Group 16"/>
            <p:cNvGrpSpPr/>
            <p:nvPr/>
          </p:nvGrpSpPr>
          <p:grpSpPr>
            <a:xfrm>
              <a:off x="457200" y="1905120"/>
              <a:ext cx="8410680" cy="1071360"/>
              <a:chOff x="457200" y="1905120"/>
              <a:chExt cx="8410680" cy="1071360"/>
            </a:xfrm>
          </p:grpSpPr>
          <p:grpSp>
            <p:nvGrpSpPr>
              <p:cNvPr id="47" name="Group 14"/>
              <p:cNvGrpSpPr/>
              <p:nvPr/>
            </p:nvGrpSpPr>
            <p:grpSpPr>
              <a:xfrm>
                <a:off x="457200" y="1905120"/>
                <a:ext cx="7496280" cy="1071360"/>
                <a:chOff x="457200" y="1905120"/>
                <a:chExt cx="7496280" cy="1071360"/>
              </a:xfrm>
            </p:grpSpPr>
            <p:sp>
              <p:nvSpPr>
                <p:cNvPr id="48" name="Прямоугольник 7"/>
                <p:cNvSpPr/>
                <p:nvPr/>
              </p:nvSpPr>
              <p:spPr>
                <a:xfrm>
                  <a:off x="457200" y="1905120"/>
                  <a:ext cx="714240" cy="1071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Прямоугольник 8"/>
                <p:cNvSpPr/>
                <p:nvPr/>
              </p:nvSpPr>
              <p:spPr>
                <a:xfrm>
                  <a:off x="1447920" y="1905120"/>
                  <a:ext cx="714240" cy="1071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Прямоугольник 3"/>
                <p:cNvSpPr/>
                <p:nvPr/>
              </p:nvSpPr>
              <p:spPr>
                <a:xfrm>
                  <a:off x="2438280" y="1905120"/>
                  <a:ext cx="714600" cy="1071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Прямоугольник 4"/>
                <p:cNvSpPr/>
                <p:nvPr/>
              </p:nvSpPr>
              <p:spPr>
                <a:xfrm>
                  <a:off x="3429000" y="1905120"/>
                  <a:ext cx="714240" cy="1071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Прямоугольник 5"/>
                <p:cNvSpPr/>
                <p:nvPr/>
              </p:nvSpPr>
              <p:spPr>
                <a:xfrm>
                  <a:off x="4419720" y="1905120"/>
                  <a:ext cx="714240" cy="1071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Прямоугольник 6"/>
                <p:cNvSpPr/>
                <p:nvPr/>
              </p:nvSpPr>
              <p:spPr>
                <a:xfrm>
                  <a:off x="5334120" y="1905120"/>
                  <a:ext cx="714240" cy="1071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Прямоугольник 7"/>
                <p:cNvSpPr/>
                <p:nvPr/>
              </p:nvSpPr>
              <p:spPr>
                <a:xfrm>
                  <a:off x="6324480" y="1905120"/>
                  <a:ext cx="714600" cy="1071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Прямоугольник 8"/>
                <p:cNvSpPr/>
                <p:nvPr/>
              </p:nvSpPr>
              <p:spPr>
                <a:xfrm>
                  <a:off x="7238880" y="1905120"/>
                  <a:ext cx="714600" cy="1071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Прямоугольник 6"/>
              <p:cNvSpPr/>
              <p:nvPr/>
            </p:nvSpPr>
            <p:spPr>
              <a:xfrm>
                <a:off x="8153280" y="1905120"/>
                <a:ext cx="714600" cy="1071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Rectangle 17"/>
            <p:cNvSpPr/>
            <p:nvPr/>
          </p:nvSpPr>
          <p:spPr>
            <a:xfrm>
              <a:off x="457200" y="1371600"/>
              <a:ext cx="8381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ОСНОВНАЯ ОБРАЗОВАТЕЛЬНАЯ ПРОГРАМ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AutoShape 19"/>
          <p:cNvSpPr/>
          <p:nvPr/>
        </p:nvSpPr>
        <p:spPr>
          <a:xfrm>
            <a:off x="8153280" y="2971800"/>
            <a:ext cx="381240" cy="1447920"/>
          </a:xfrm>
          <a:prstGeom prst="downArrow">
            <a:avLst>
              <a:gd name="adj1" fmla="val 50000"/>
              <a:gd name="adj2" fmla="val 9494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143000" y="857160"/>
            <a:ext cx="707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 «Я» порождает  систему смыслов,  находящих отражение в  отношении ребенка к школе, учению,  сверстникам  и  семье,  к себе и социальному ми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214720" y="250020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ация 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785880" y="371484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ые и познавательные мо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5500800" y="3500280"/>
            <a:ext cx="300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,  позиционные (статусные, узколичностные) мо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5"/>
          <p:cNvCxnSpPr/>
          <p:nvPr/>
        </p:nvCxnSpPr>
        <p:spPr>
          <a:xfrm flipH="1">
            <a:off x="2786040" y="2999880"/>
            <a:ext cx="64332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Прямая со стрелкой 6"/>
          <p:cNvCxnSpPr/>
          <p:nvPr/>
        </p:nvCxnSpPr>
        <p:spPr>
          <a:xfrm>
            <a:off x="5429160" y="2928960"/>
            <a:ext cx="121536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857160" y="571680"/>
            <a:ext cx="764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ражданская идентич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рактуется как осознание личностью своей принадлежности к сообществу граждан определенного   государства на общекультурной осн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785880" y="1785960"/>
            <a:ext cx="7643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 гражданской идентичности включает следующие компон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797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нитивный  (знание о принадлежности к данной социальной общ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797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ностно-смысловой (позитивное, негативное или двойственное отношение к принадлеж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797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оциональный (принятие или неприятие своей принадлеж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797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ный (поведенческий – гражданская актив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797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правляющая кнопка: справка 3"/>
          <p:cNvSpPr/>
          <p:nvPr/>
        </p:nvSpPr>
        <p:spPr>
          <a:xfrm>
            <a:off x="285840" y="5286240"/>
            <a:ext cx="714240" cy="71460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1">
                <a:moveTo>
                  <a:pt x="11905" y="14287"/>
                </a:moveTo>
                <a:lnTo>
                  <a:pt x="11905" y="12329"/>
                </a:lnTo>
                <a:cubicBezTo>
                  <a:pt x="11905" y="11502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40"/>
                  <a:pt x="13011" y="3799"/>
                  <a:pt x="10800" y="3799"/>
                </a:cubicBezTo>
                <a:cubicBezTo>
                  <a:pt x="8589" y="3799"/>
                  <a:pt x="6918" y="5540"/>
                  <a:pt x="6918" y="7855"/>
                </a:cubicBezTo>
                <a:lnTo>
                  <a:pt x="8772" y="7855"/>
                </a:lnTo>
                <a:cubicBezTo>
                  <a:pt x="8772" y="6715"/>
                  <a:pt x="9695" y="5827"/>
                  <a:pt x="10800" y="5827"/>
                </a:cubicBezTo>
                <a:cubicBezTo>
                  <a:pt x="11905" y="5827"/>
                  <a:pt x="12837" y="6715"/>
                  <a:pt x="12837" y="7855"/>
                </a:cubicBezTo>
                <a:cubicBezTo>
                  <a:pt x="12837" y="8595"/>
                  <a:pt x="12367" y="9326"/>
                  <a:pt x="11905" y="9326"/>
                </a:cubicBezTo>
                <a:cubicBezTo>
                  <a:pt x="10800" y="9326"/>
                  <a:pt x="9695" y="10805"/>
                  <a:pt x="9695" y="12329"/>
                </a:cubicBezTo>
                <a:lnTo>
                  <a:pt x="9695" y="14287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357200" y="535788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компоненты могут быть сформированы в начальной школ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928800" y="92880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оценка является ядром самосознания личности, выступая как система оценок и представлений о себе, своих качествах и возможностях, своем месте в мире и в отношениях с други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857680" y="2786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АМО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571680" y="3643200"/>
            <a:ext cx="81532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ая общая само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ретные самооценки: адекватные, осознанные, устойчивые,  дифференцированные, рефлексив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428760" y="357120"/>
            <a:ext cx="81961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99"/>
              </a:spcBef>
              <a:tabLst>
                <a:tab algn="l" pos="0"/>
                <a:tab algn="l" pos="2428920"/>
                <a:tab algn="l" pos="295272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Если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общая самооценка ребенка ущерб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если ее благополучию что-то угрожает, то включаются мощные защитные механизмы, действующие на бессознательном уровне. Защиты проявляются в следующих особенностях пове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2428920"/>
                <a:tab algn="l" pos="295272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енок реагирует на критику агрессивно, становится болезненно обидчив, повышенно чувствителен к оценке, в самой безобидной шутке усматривает пренебрежение, неодобрение, презрение, неуважительное отношение к себ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2428920"/>
                <a:tab algn="l" pos="295272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ребенок оценивает других людей как потенциальных обидчиков и отзывается о них дурно, превентивно снижая цену их оценок; все окружающие оказываются либо дураками, либо мерзавц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2428920"/>
                <a:tab algn="l" pos="295272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 на похвалу, на любое выражение любви (пусть даже формальное, поверхностное) ребенок отвечает всплеском слепого обожания, некритичной привязанности, впадает в зависимость от человека, выразившего доброе отношение, и любое отдаление воспринимает как предательство, как крушение ми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785880" y="714240"/>
            <a:ext cx="784836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любое дело, за которое ребенка критиковали, обесценивается, интерес к нему падает, быстро растет число отвлечений и, соответственно, ошибок, замечания вызывают поток резонерства, самооправдания, всегда находятся внешние причины для неуспеха (кто-то помешал, навреди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ребенок отчаянно стремится привлечь к себе внимание любыми средствами, и если не получается по-хорошему, то в ход пускаютс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лиганские выходки, шутовство, демонстративное неподчинение, ибо безразличие мира гораздо страшнее, чем осужд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снижается общий уровень поведения, ребенок спускается на предыдущий, более инфантильный уровень самостоятельности, своей беспомощностью побуждая окружающих проявить к нему больше внимания, участия, опекать и оберегать 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А. Цукерман «Оценка без отмет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428760" y="642960"/>
            <a:ext cx="837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ства конкретной самооценки наиболее зависимы от характера оценочных отношений ребенка и взрослого, ученика и уч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Группа 8"/>
          <p:cNvGrpSpPr/>
          <p:nvPr/>
        </p:nvGrpSpPr>
        <p:grpSpPr>
          <a:xfrm>
            <a:off x="500040" y="2286000"/>
            <a:ext cx="8215200" cy="857160"/>
            <a:chOff x="500040" y="2286000"/>
            <a:chExt cx="8215200" cy="857160"/>
          </a:xfrm>
        </p:grpSpPr>
        <p:sp>
          <p:nvSpPr>
            <p:cNvPr id="154" name="Прямоугольник 3"/>
            <p:cNvSpPr/>
            <p:nvPr/>
          </p:nvSpPr>
          <p:spPr>
            <a:xfrm>
              <a:off x="5214960" y="2286000"/>
              <a:ext cx="35002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Регулятив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оугольник 4"/>
            <p:cNvSpPr/>
            <p:nvPr/>
          </p:nvSpPr>
          <p:spPr>
            <a:xfrm>
              <a:off x="500040" y="2286000"/>
              <a:ext cx="3143160" cy="85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ичнос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Двойная стрелка влево/вправо 5"/>
            <p:cNvSpPr/>
            <p:nvPr/>
          </p:nvSpPr>
          <p:spPr>
            <a:xfrm>
              <a:off x="3643200" y="2428920"/>
              <a:ext cx="1571400" cy="571320"/>
            </a:xfrm>
            <a:prstGeom prst="leftRightArrow">
              <a:avLst>
                <a:gd name="adj1" fmla="val 50000"/>
                <a:gd name="adj2" fmla="val 50005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6"/>
          <p:cNvSpPr/>
          <p:nvPr/>
        </p:nvSpPr>
        <p:spPr>
          <a:xfrm>
            <a:off x="500040" y="378612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Личностная саморегуляци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ная на самооценке школьника, обеспечивается включенностью в мотивационно-смысловую сферу личности, формированием в ходе учебной деятельности рефлексивного отношения к себе, нравственно-этическим оцениванием своих поступков на основе усвоения нравственных норм, развитием мышления, позволяющим дифференцировать самооценку по содерж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928800" y="6429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равственно-этическ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642960" y="121428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яет собой выбор действия в условиях морального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785880" y="200016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Типы   н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Моральные норм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рассматривать как виды норм, выполняющих функцию регуляции морально-нравственных отношений между людьми и выступающих основанием для оценки поступ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Конвенциальные норм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ляют собой социальные стандарты поведения, регламентирующие жизненные ситуации в быту и обществен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ерсональные нормы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ватывают индивидуальные предпочтения  и приоритеты личности в организации собственной жизнедеятельности, в том числе особенности семейных правил, режима дня, распоряжения финансовыми средствами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571680" y="785880"/>
            <a:ext cx="7929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Эмпат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вает адекватное понимание ребенком чувств участников ситуации и их взаимо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Децентрац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воляет ребенку скоординировать различные позиции участников взаимодействия и выделить морально-нравственное содержание ситу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Группа 12"/>
          <p:cNvGrpSpPr/>
          <p:nvPr/>
        </p:nvGrpSpPr>
        <p:grpSpPr>
          <a:xfrm>
            <a:off x="642960" y="3500280"/>
            <a:ext cx="7429320" cy="2143080"/>
            <a:chOff x="642960" y="3500280"/>
            <a:chExt cx="7429320" cy="2143080"/>
          </a:xfrm>
        </p:grpSpPr>
        <p:sp>
          <p:nvSpPr>
            <p:cNvPr id="163" name="Прямоугольник 3"/>
            <p:cNvSpPr/>
            <p:nvPr/>
          </p:nvSpPr>
          <p:spPr>
            <a:xfrm>
              <a:off x="642960" y="4143240"/>
              <a:ext cx="2357280" cy="71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Личност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оугольник 4"/>
            <p:cNvSpPr/>
            <p:nvPr/>
          </p:nvSpPr>
          <p:spPr>
            <a:xfrm>
              <a:off x="4786200" y="3500280"/>
              <a:ext cx="3214440" cy="64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знавате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5"/>
            <p:cNvSpPr/>
            <p:nvPr/>
          </p:nvSpPr>
          <p:spPr>
            <a:xfrm>
              <a:off x="4857840" y="4929120"/>
              <a:ext cx="3214440" cy="714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оммуникатив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Прямая со стрелкой 6"/>
            <p:cNvCxnSpPr>
              <a:stCxn id="163" idx="3"/>
              <a:endCxn id="164" idx="1"/>
            </p:cNvCxnSpPr>
            <p:nvPr/>
          </p:nvCxnSpPr>
          <p:spPr>
            <a:xfrm flipV="1">
              <a:off x="2999880" y="3821760"/>
              <a:ext cx="1786680" cy="6786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67" name="Прямая со стрелкой 7"/>
            <p:cNvCxnSpPr>
              <a:endCxn id="165" idx="1"/>
            </p:cNvCxnSpPr>
            <p:nvPr/>
          </p:nvCxnSpPr>
          <p:spPr>
            <a:xfrm>
              <a:off x="2999880" y="4714560"/>
              <a:ext cx="1857960" cy="5720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000080" y="571680"/>
            <a:ext cx="735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ируем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овы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документ 2"/>
          <p:cNvSpPr/>
          <p:nvPr/>
        </p:nvSpPr>
        <p:spPr>
          <a:xfrm>
            <a:off x="428760" y="642960"/>
            <a:ext cx="428400" cy="7142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714240"/>
              <a:gd name="textAreaBottom" fmla="*/ 686520 h 714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Less" w="21600" h="36000">
                <a:moveTo>
                  <a:pt x="5273" y="11185"/>
                </a:moveTo>
                <a:lnTo>
                  <a:pt x="12271" y="11185"/>
                </a:lnTo>
                <a:lnTo>
                  <a:pt x="16327" y="14684"/>
                </a:lnTo>
                <a:lnTo>
                  <a:pt x="16327" y="24815"/>
                </a:lnTo>
                <a:lnTo>
                  <a:pt x="5273" y="24815"/>
                </a:lnTo>
                <a:close/>
              </a:path>
              <a:path fill="darken" w="21600" h="36000">
                <a:moveTo>
                  <a:pt x="12271" y="11185"/>
                </a:moveTo>
                <a:lnTo>
                  <a:pt x="16327" y="14684"/>
                </a:lnTo>
                <a:lnTo>
                  <a:pt x="12271" y="1468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14240" y="3143160"/>
          <a:ext cx="7643880" cy="8222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3357720"/>
                <a:gridCol w="2000160"/>
              </a:tblGrid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Вид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Состав-ля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182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Типовые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65040" indent="763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Связь с учебными предмет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1143000" y="714240"/>
            <a:ext cx="728676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.4. Программа формирования универсальных учебных действий у обучающихся на ступени начального общего образования должна содерж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ценностных ориентиров содержания образования на ступени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ь универсальных учебных действий с содержанием учебных предм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стики личностных, регулятивных, познавательных, коммуникативных универсальных учебных действий 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иповые задачи формирования личностных, регулятивных, познавательных, коммуникативных универсальных учебных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писание преемственности программы формирования универсальных учебных действий при переходе от дошкольного к начальному образовани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Группа 56"/>
          <p:cNvGrpSpPr/>
          <p:nvPr/>
        </p:nvGrpSpPr>
        <p:grpSpPr>
          <a:xfrm>
            <a:off x="1999440" y="642960"/>
            <a:ext cx="5287320" cy="4228920"/>
            <a:chOff x="1999440" y="642960"/>
            <a:chExt cx="5287320" cy="4228920"/>
          </a:xfrm>
        </p:grpSpPr>
        <p:sp>
          <p:nvSpPr>
            <p:cNvPr id="60" name="Прямоугольник 2"/>
            <p:cNvSpPr/>
            <p:nvPr/>
          </p:nvSpPr>
          <p:spPr>
            <a:xfrm>
              <a:off x="2000160" y="4384080"/>
              <a:ext cx="5286600" cy="487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Группа 46"/>
            <p:cNvGrpSpPr/>
            <p:nvPr/>
          </p:nvGrpSpPr>
          <p:grpSpPr>
            <a:xfrm>
              <a:off x="2566440" y="914040"/>
              <a:ext cx="3839040" cy="3415680"/>
              <a:chOff x="2566440" y="914040"/>
              <a:chExt cx="3839040" cy="3415680"/>
            </a:xfrm>
          </p:grpSpPr>
          <p:sp>
            <p:nvSpPr>
              <p:cNvPr id="62" name="Прямоугольник 7"/>
              <p:cNvSpPr/>
              <p:nvPr/>
            </p:nvSpPr>
            <p:spPr>
              <a:xfrm>
                <a:off x="2566440" y="2323800"/>
                <a:ext cx="629280" cy="813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Группа 38"/>
              <p:cNvGrpSpPr/>
              <p:nvPr/>
            </p:nvGrpSpPr>
            <p:grpSpPr>
              <a:xfrm>
                <a:off x="2692080" y="914040"/>
                <a:ext cx="3713400" cy="3415680"/>
                <a:chOff x="2692080" y="914040"/>
                <a:chExt cx="3713400" cy="3415680"/>
              </a:xfrm>
            </p:grpSpPr>
            <p:sp>
              <p:nvSpPr>
                <p:cNvPr id="64" name="Прямоугольник 10"/>
                <p:cNvSpPr/>
                <p:nvPr/>
              </p:nvSpPr>
              <p:spPr>
                <a:xfrm>
                  <a:off x="3573000" y="3516480"/>
                  <a:ext cx="629280" cy="813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" name="Группа 37"/>
                <p:cNvGrpSpPr/>
                <p:nvPr/>
              </p:nvGrpSpPr>
              <p:grpSpPr>
                <a:xfrm>
                  <a:off x="2692080" y="914040"/>
                  <a:ext cx="3713400" cy="3415680"/>
                  <a:chOff x="2692080" y="914040"/>
                  <a:chExt cx="3713400" cy="3415680"/>
                </a:xfrm>
              </p:grpSpPr>
              <p:sp>
                <p:nvSpPr>
                  <p:cNvPr id="66" name="Прямоугольник 12"/>
                  <p:cNvSpPr/>
                  <p:nvPr/>
                </p:nvSpPr>
                <p:spPr>
                  <a:xfrm>
                    <a:off x="4957920" y="3516480"/>
                    <a:ext cx="629280" cy="81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400" spc="-1" strike="noStrike">
                        <a:solidFill>
                          <a:srgbClr val="002060"/>
                        </a:solidFill>
                        <a:latin typeface="Arial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" name="Группа 27"/>
                  <p:cNvGrpSpPr/>
                  <p:nvPr/>
                </p:nvGrpSpPr>
                <p:grpSpPr>
                  <a:xfrm>
                    <a:off x="2692080" y="914040"/>
                    <a:ext cx="3650760" cy="2168640"/>
                    <a:chOff x="2692080" y="914040"/>
                    <a:chExt cx="3650760" cy="2168640"/>
                  </a:xfrm>
                </p:grpSpPr>
                <p:sp>
                  <p:nvSpPr>
                    <p:cNvPr id="68" name="Прямоугольник 3"/>
                    <p:cNvSpPr/>
                    <p:nvPr/>
                  </p:nvSpPr>
                  <p:spPr>
                    <a:xfrm>
                      <a:off x="4202640" y="2269440"/>
                      <a:ext cx="629280" cy="813240"/>
                    </a:xfrm>
                    <a:prstGeom prst="rect">
                      <a:avLst/>
                    </a:prstGeom>
                    <a:solidFill>
                      <a:srgbClr val="37ff37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Прямоугольник 5"/>
                    <p:cNvSpPr/>
                    <p:nvPr/>
                  </p:nvSpPr>
                  <p:spPr>
                    <a:xfrm>
                      <a:off x="2692080" y="914040"/>
                      <a:ext cx="629280" cy="813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Прямоугольник 6"/>
                    <p:cNvSpPr/>
                    <p:nvPr/>
                  </p:nvSpPr>
                  <p:spPr>
                    <a:xfrm>
                      <a:off x="4202640" y="914040"/>
                      <a:ext cx="629280" cy="813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Прямоугольник 8"/>
                    <p:cNvSpPr/>
                    <p:nvPr/>
                  </p:nvSpPr>
                  <p:spPr>
                    <a:xfrm>
                      <a:off x="5713560" y="914040"/>
                      <a:ext cx="629280" cy="813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72" name="Прямая со стрелкой 11"/>
                    <p:cNvCxnSpPr>
                      <a:stCxn id="68" idx="3"/>
                      <a:endCxn id="69" idx="1"/>
                    </p:cNvCxnSpPr>
                    <p:nvPr/>
                  </p:nvCxnSpPr>
                  <p:spPr>
                    <a:xfrm>
                      <a:off x="3321360" y="1320120"/>
                      <a:ext cx="882000" cy="1800"/>
                    </a:xfrm>
                    <a:prstGeom prst="straightConnector1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  <a:headEnd len="med" type="arrow" w="med"/>
                      <a:tailEnd len="med" type="arrow" w="lg"/>
                    </a:ln>
                  </p:spPr>
                </p:cxnSp>
                <p:cxnSp>
                  <p:nvCxnSpPr>
                    <p:cNvPr id="73" name="Прямая со стрелкой 12"/>
                    <p:cNvCxnSpPr/>
                    <p:nvPr/>
                  </p:nvCxnSpPr>
                  <p:spPr>
                    <a:xfrm>
                      <a:off x="4832280" y="1293120"/>
                      <a:ext cx="882000" cy="1800"/>
                    </a:xfrm>
                    <a:prstGeom prst="straightConnector1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  <a:headEnd len="med" type="arrow" w="med"/>
                      <a:tailEnd len="med" type="arrow" w="lg"/>
                    </a:ln>
                  </p:spPr>
                </p:cxnSp>
                <p:sp>
                  <p:nvSpPr>
                    <p:cNvPr id="74" name="Прямая соединительная линия 14"/>
                    <p:cNvSpPr/>
                    <p:nvPr/>
                  </p:nvSpPr>
                  <p:spPr>
                    <a:xfrm>
                      <a:off x="2943720" y="2052720"/>
                      <a:ext cx="3084480" cy="108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75" name="Прямая со стрелкой 26"/>
                    <p:cNvCxnSpPr/>
                    <p:nvPr/>
                  </p:nvCxnSpPr>
                  <p:spPr>
                    <a:xfrm flipV="1">
                      <a:off x="6026400" y="1727640"/>
                      <a:ext cx="1800" cy="325440"/>
                    </a:xfrm>
                    <a:prstGeom prst="straightConnector1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76" name="Прямая со стрелкой 27"/>
                    <p:cNvCxnSpPr/>
                    <p:nvPr/>
                  </p:nvCxnSpPr>
                  <p:spPr>
                    <a:xfrm flipV="1">
                      <a:off x="2942640" y="1726920"/>
                      <a:ext cx="1800" cy="325440"/>
                    </a:xfrm>
                    <a:prstGeom prst="straightConnector1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77" name="Прямая со стрелкой 28"/>
                    <p:cNvCxnSpPr>
                      <a:stCxn id="69" idx="2"/>
                    </p:cNvCxnSpPr>
                    <p:nvPr/>
                  </p:nvCxnSpPr>
                  <p:spPr>
                    <a:xfrm flipH="1">
                      <a:off x="4516200" y="1728000"/>
                      <a:ext cx="1800" cy="542880"/>
                    </a:xfrm>
                    <a:prstGeom prst="straightConnector1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  <a:headEnd len="med" type="arrow" w="med"/>
                      <a:tailEnd len="med" type="arrow" w="med"/>
                    </a:ln>
                  </p:spPr>
                </p:cxnSp>
              </p:grpSp>
              <p:sp>
                <p:nvSpPr>
                  <p:cNvPr id="78" name="Прямоугольник 14"/>
                  <p:cNvSpPr/>
                  <p:nvPr/>
                </p:nvSpPr>
                <p:spPr>
                  <a:xfrm>
                    <a:off x="5776200" y="2269440"/>
                    <a:ext cx="629280" cy="81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400" spc="-1" strike="noStrike">
                        <a:solidFill>
                          <a:srgbClr val="002060"/>
                        </a:solidFill>
                        <a:latin typeface="Arial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79" name="Прямая со стрелкой 15"/>
                  <p:cNvCxnSpPr>
                    <a:endCxn id="78" idx="1"/>
                  </p:cNvCxnSpPr>
                  <p:nvPr/>
                </p:nvCxnSpPr>
                <p:spPr>
                  <a:xfrm>
                    <a:off x="4831920" y="2675880"/>
                    <a:ext cx="944640" cy="1800"/>
                  </a:xfrm>
                  <a:prstGeom prst="straightConnector1">
                    <a:avLst/>
                  </a:prstGeom>
                  <a:ln w="57240">
                    <a:solidFill>
                      <a:srgbClr val="0000ff"/>
                    </a:solidFill>
                    <a:miter/>
                    <a:headEnd len="med" type="arrow" w="med"/>
                    <a:tailEnd len="med" type="arrow" w="med"/>
                  </a:ln>
                </p:spPr>
              </p:cxnSp>
              <p:cxnSp>
                <p:nvCxnSpPr>
                  <p:cNvPr id="80" name="Прямая со стрелкой 16"/>
                  <p:cNvCxnSpPr/>
                  <p:nvPr/>
                </p:nvCxnSpPr>
                <p:spPr>
                  <a:xfrm flipH="1">
                    <a:off x="4075920" y="3082320"/>
                    <a:ext cx="441000" cy="488520"/>
                  </a:xfrm>
                  <a:prstGeom prst="straightConnector1">
                    <a:avLst/>
                  </a:prstGeom>
                  <a:ln w="57240">
                    <a:solidFill>
                      <a:srgbClr val="0000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1" name="Прямая со стрелкой 17"/>
                  <p:cNvCxnSpPr>
                    <a:endCxn id="66" idx="0"/>
                  </p:cNvCxnSpPr>
                  <p:nvPr/>
                </p:nvCxnSpPr>
                <p:spPr>
                  <a:xfrm>
                    <a:off x="4643280" y="3082680"/>
                    <a:ext cx="630000" cy="434160"/>
                  </a:xfrm>
                  <a:prstGeom prst="straightConnector1">
                    <a:avLst/>
                  </a:prstGeom>
                  <a:ln w="57240">
                    <a:solidFill>
                      <a:srgbClr val="0000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2" name="Прямая со стрелкой 18"/>
                  <p:cNvCxnSpPr/>
                  <p:nvPr/>
                </p:nvCxnSpPr>
                <p:spPr>
                  <a:xfrm>
                    <a:off x="3714480" y="2071440"/>
                    <a:ext cx="48240" cy="1499760"/>
                  </a:xfrm>
                  <a:prstGeom prst="straightConnector1">
                    <a:avLst/>
                  </a:prstGeom>
                  <a:ln w="57240">
                    <a:solidFill>
                      <a:srgbClr val="0000ff"/>
                    </a:solidFill>
                    <a:miter/>
                    <a:tailEnd len="med" type="arrow" w="med"/>
                  </a:ln>
                </p:spPr>
              </p:cxnSp>
            </p:grpSp>
          </p:grpSp>
          <p:cxnSp>
            <p:nvCxnSpPr>
              <p:cNvPr id="83" name="Прямая со стрелкой 9"/>
              <p:cNvCxnSpPr>
                <a:stCxn id="62" idx="3"/>
              </p:cNvCxnSpPr>
              <p:nvPr/>
            </p:nvCxnSpPr>
            <p:spPr>
              <a:xfrm flipV="1">
                <a:off x="3195360" y="2675880"/>
                <a:ext cx="1007640" cy="54720"/>
              </a:xfrm>
              <a:prstGeom prst="straightConnector1">
                <a:avLst/>
              </a:prstGeom>
              <a:ln w="57240">
                <a:solidFill>
                  <a:srgbClr val="0000ff"/>
                </a:solidFill>
                <a:miter/>
                <a:headEnd len="med" type="arrow" w="med"/>
                <a:tailEnd len="med" type="arrow" w="med"/>
              </a:ln>
            </p:spPr>
          </p:cxnSp>
        </p:grpSp>
        <p:sp>
          <p:nvSpPr>
            <p:cNvPr id="84" name="Прямая соединительная линия 4"/>
            <p:cNvSpPr/>
            <p:nvPr/>
          </p:nvSpPr>
          <p:spPr>
            <a:xfrm flipV="1">
              <a:off x="1999440" y="696960"/>
              <a:ext cx="1080" cy="3741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5"/>
            <p:cNvSpPr/>
            <p:nvPr/>
          </p:nvSpPr>
          <p:spPr>
            <a:xfrm>
              <a:off x="2000160" y="642960"/>
              <a:ext cx="5097960" cy="1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6"/>
            <p:cNvSpPr/>
            <p:nvPr/>
          </p:nvSpPr>
          <p:spPr>
            <a:xfrm>
              <a:off x="7161840" y="643320"/>
              <a:ext cx="61920" cy="3740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33"/>
          <p:cNvSpPr/>
          <p:nvPr/>
        </p:nvSpPr>
        <p:spPr>
          <a:xfrm>
            <a:off x="4038480" y="4876920"/>
            <a:ext cx="1143000" cy="7617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2"/>
          <p:cNvSpPr/>
          <p:nvPr/>
        </p:nvSpPr>
        <p:spPr>
          <a:xfrm>
            <a:off x="838080" y="5638680"/>
            <a:ext cx="7696440" cy="838440"/>
          </a:xfrm>
          <a:prstGeom prst="rect">
            <a:avLst/>
          </a:prstGeom>
          <a:solidFill>
            <a:srgbClr val="37ff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БРАЗОВАТЕЛЬНЫЙ   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Управляющая кнопка: документ 1"/>
          <p:cNvSpPr/>
          <p:nvPr/>
        </p:nvSpPr>
        <p:spPr>
          <a:xfrm>
            <a:off x="428760" y="714240"/>
            <a:ext cx="428400" cy="7146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714600"/>
              <a:gd name="textAreaBottom" fmla="*/ 686880 h 714600"/>
            </a:gdLst>
            <a:ahLst/>
            <a:rect l="textAreaLeft" t="textAreaTop" r="textAreaRight" b="textAreaBottom"/>
            <a:pathLst>
              <a:path w="21600" h="36018">
                <a:moveTo>
                  <a:pt x="0" y="0"/>
                </a:moveTo>
                <a:lnTo>
                  <a:pt x="21600" y="0"/>
                </a:lnTo>
                <a:lnTo>
                  <a:pt x="21600" y="36018"/>
                </a:lnTo>
                <a:lnTo>
                  <a:pt x="0" y="36018"/>
                </a:lnTo>
                <a:close/>
              </a:path>
              <a:path fill="lightenLess" w="21600" h="360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8">
                <a:moveTo>
                  <a:pt x="21600" y="0"/>
                </a:moveTo>
                <a:lnTo>
                  <a:pt x="21600" y="36018"/>
                </a:lnTo>
                <a:lnTo>
                  <a:pt x="20200" y="34618"/>
                </a:lnTo>
                <a:lnTo>
                  <a:pt x="20200" y="1400"/>
                </a:lnTo>
                <a:close/>
              </a:path>
              <a:path fill="darkenLess" w="21600" h="36018">
                <a:moveTo>
                  <a:pt x="21600" y="36018"/>
                </a:moveTo>
                <a:lnTo>
                  <a:pt x="0" y="36018"/>
                </a:lnTo>
                <a:lnTo>
                  <a:pt x="1400" y="34618"/>
                </a:lnTo>
                <a:lnTo>
                  <a:pt x="20200" y="34618"/>
                </a:lnTo>
                <a:close/>
              </a:path>
              <a:path fill="lighten" w="21600" h="36018">
                <a:moveTo>
                  <a:pt x="0" y="36018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8"/>
                </a:lnTo>
                <a:close/>
              </a:path>
              <a:path fill="darkenLess" w="21600" h="36018">
                <a:moveTo>
                  <a:pt x="5273" y="11194"/>
                </a:moveTo>
                <a:lnTo>
                  <a:pt x="12271" y="11194"/>
                </a:lnTo>
                <a:lnTo>
                  <a:pt x="16327" y="14693"/>
                </a:lnTo>
                <a:lnTo>
                  <a:pt x="16327" y="24824"/>
                </a:lnTo>
                <a:lnTo>
                  <a:pt x="5273" y="24824"/>
                </a:lnTo>
                <a:close/>
              </a:path>
              <a:path fill="darken" w="21600" h="36018">
                <a:moveTo>
                  <a:pt x="12271" y="11194"/>
                </a:moveTo>
                <a:lnTo>
                  <a:pt x="16327" y="14693"/>
                </a:lnTo>
                <a:lnTo>
                  <a:pt x="12271" y="1469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000080" y="1071720"/>
            <a:ext cx="7696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анализируйте  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ФГ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(дошкольное образова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 форму описания преемственности программы формирования УУД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шите  преемственные связи в соответствии с выбранной структур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762120" y="1397160"/>
          <a:ext cx="7696080" cy="4063680"/>
        </p:xfrm>
        <a:graphic>
          <a:graphicData uri="http://schemas.openxmlformats.org/drawingml/2006/table">
            <a:tbl>
              <a:tblPr/>
              <a:tblGrid>
                <a:gridCol w="3809880"/>
                <a:gridCol w="3886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уемые результаты освоения ООП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у учи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бобщенные способы действий, компетен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 формирования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 учить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истемно-деятельностный подхо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оценки достижения 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выявить уровень достижени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мплексный подхо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533520" y="685800"/>
            <a:ext cx="80769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ланируемые результаты освоения ООП НОО долж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обеспечивать связь между требованиями Стандарта, образовательным процессом и системой оценки результатов освоения ООП НО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являться основой для разработки ООП НОО образователь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являться содержательной и критериальной основой для разработки рабочих программ учебных предметов и учебно-методической литературы, а также для системы оценки качества освоения обучающимися ООП НОО в соответствии с требованиями Станда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685800" y="457200"/>
            <a:ext cx="792468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 и содержание планируемых результатов освоения ООП НОО должны адекватно отражать требования Стандарта, передавать специфику образовательного процесса (в частности, специфику целей изучения отдельных учебных предметов), соответствовать возрастным возможностям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ируемые результаты освоения обучающимися ООП НОО должны уточнять и конкретизировать общее понимание личностных, метапредметных и предметных результатов как с позиций  организации их достижения в образовательном процессе, так и с позиции оценки этих результатов. Оценка результатов деятельности системы образования, образовательных учреждений, педагогических работников должна учитывать планируемые результаты освоения обучающимися ООП НО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Управляющая кнопка: справка 1"/>
          <p:cNvSpPr/>
          <p:nvPr/>
        </p:nvSpPr>
        <p:spPr>
          <a:xfrm>
            <a:off x="457200" y="7621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1634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673">
                <a:moveTo>
                  <a:pt x="11905" y="15818"/>
                </a:moveTo>
                <a:lnTo>
                  <a:pt x="11905" y="13860"/>
                </a:lnTo>
                <a:cubicBezTo>
                  <a:pt x="11905" y="13033"/>
                  <a:pt x="12236" y="12337"/>
                  <a:pt x="12837" y="12337"/>
                </a:cubicBezTo>
                <a:cubicBezTo>
                  <a:pt x="13968" y="12337"/>
                  <a:pt x="14865" y="10970"/>
                  <a:pt x="14865" y="9386"/>
                </a:cubicBezTo>
                <a:cubicBezTo>
                  <a:pt x="14865" y="7071"/>
                  <a:pt x="13011" y="5330"/>
                  <a:pt x="10800" y="5330"/>
                </a:cubicBezTo>
                <a:cubicBezTo>
                  <a:pt x="8589" y="5330"/>
                  <a:pt x="6918" y="7071"/>
                  <a:pt x="6918" y="9386"/>
                </a:cubicBezTo>
                <a:lnTo>
                  <a:pt x="8772" y="9386"/>
                </a:lnTo>
                <a:cubicBezTo>
                  <a:pt x="8772" y="8246"/>
                  <a:pt x="9695" y="7358"/>
                  <a:pt x="10800" y="7358"/>
                </a:cubicBezTo>
                <a:cubicBezTo>
                  <a:pt x="11905" y="7358"/>
                  <a:pt x="12837" y="8246"/>
                  <a:pt x="12837" y="9386"/>
                </a:cubicBezTo>
                <a:cubicBezTo>
                  <a:pt x="12837" y="10126"/>
                  <a:pt x="12367" y="10857"/>
                  <a:pt x="11905" y="10857"/>
                </a:cubicBezTo>
                <a:cubicBezTo>
                  <a:pt x="10800" y="10857"/>
                  <a:pt x="9695" y="12337"/>
                  <a:pt x="9695" y="13860"/>
                </a:cubicBezTo>
                <a:lnTo>
                  <a:pt x="9695" y="1581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752480" y="838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7524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уемые 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00080" y="3643200"/>
          <a:ext cx="7024680" cy="1189080"/>
        </p:xfrm>
        <a:graphic>
          <a:graphicData uri="http://schemas.openxmlformats.org/drawingml/2006/table">
            <a:tbl>
              <a:tblPr/>
              <a:tblGrid>
                <a:gridCol w="3071880"/>
                <a:gridCol w="3952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ываю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остные  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ю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предметные 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ые 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685800" y="990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ируем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2971800"/>
          <a:ext cx="7848720" cy="1057320"/>
        </p:xfrm>
        <a:graphic>
          <a:graphicData uri="http://schemas.openxmlformats.org/drawingml/2006/table">
            <a:tbl>
              <a:tblPr/>
              <a:tblGrid>
                <a:gridCol w="1143000"/>
                <a:gridCol w="1600200"/>
                <a:gridCol w="1828800"/>
                <a:gridCol w="1981080"/>
                <a:gridCol w="12956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7:23:41Z</dcterms:created>
  <dc:creator>Ho</dc:creator>
  <dc:description/>
  <dc:language>en-US</dc:language>
  <cp:lastModifiedBy>Ho</cp:lastModifiedBy>
  <dcterms:modified xsi:type="dcterms:W3CDTF">2010-11-10T20:39:45Z</dcterms:modified>
  <cp:revision>60</cp:revision>
  <dc:subject/>
  <dc:title>Слайд 1</dc:title>
</cp:coreProperties>
</file>