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4F57-D3DE-44E8-82AC-2B2429D0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DF12-A60D-488C-9EBF-A105B8B6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37D5-82AE-4DFA-86C7-95F360328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0F94-8827-4E82-8268-660486313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2EF0-3F0C-41A0-9063-5CE07C186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707F-DF44-4F43-8D30-916BEE016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AB91-FDC5-48A0-BF28-69427A40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8B3F-1B62-4EF5-89B4-EDD677077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6678-1608-4564-B136-43AB06EF7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1FDE-B850-4067-B6E9-D293E4D6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2DFE-6850-4DF0-A306-4A38EAC2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100F-9504-455B-88AD-6FD3381D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 u="sng">
                <a:solidFill>
                  <a:srgbClr val="bcbcbc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0ACE7-0A72-40D8-A034-E7027542F121}" type="slidenum">
              <a:rPr b="0" lang="ru-RU" sz="1200" spc="-1" strike="noStrike" u="sng">
                <a:solidFill>
                  <a:srgbClr val="bcbcbc"/>
                </a:solidFill>
                <a:uFillTx/>
                <a:latin typeface="Arial"/>
              </a:rPr>
              <a:t>&lt;number&gt;</a:t>
            </a:fld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5" descr=""/>
          <p:cNvPicPr/>
          <p:nvPr/>
        </p:nvPicPr>
        <p:blipFill>
          <a:blip r:embed="rId1"/>
          <a:stretch/>
        </p:blipFill>
        <p:spPr>
          <a:xfrm>
            <a:off x="225360" y="2968560"/>
            <a:ext cx="8778960" cy="262728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6"/>
          <p:cNvSpPr/>
          <p:nvPr/>
        </p:nvSpPr>
        <p:spPr>
          <a:xfrm>
            <a:off x="0" y="351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0" y="609480"/>
            <a:ext cx="44197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Муниципальное образовательное учреждение дополнительного образования детей</a:t>
            </a:r>
            <a:endParaRPr b="0" lang="en-US" sz="16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«Дворец творчества детей и молодёжи имени В.М. Комарова»</a:t>
            </a:r>
            <a:endParaRPr b="0" lang="en-US" sz="16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г. Снежинск</a:t>
            </a:r>
            <a:endParaRPr b="0" lang="en-US" sz="16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44" name="Picture 4" descr="bØ"/>
          <p:cNvPicPr/>
          <p:nvPr/>
        </p:nvPicPr>
        <p:blipFill>
          <a:blip r:embed="rId2"/>
          <a:stretch/>
        </p:blipFill>
        <p:spPr>
          <a:xfrm>
            <a:off x="4243320" y="5730840"/>
            <a:ext cx="1492200" cy="706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3"/>
          <a:stretch/>
        </p:blipFill>
        <p:spPr>
          <a:xfrm>
            <a:off x="4419720" y="380880"/>
            <a:ext cx="4419360" cy="2962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1"/>
          <p:cNvSpPr/>
          <p:nvPr/>
        </p:nvSpPr>
        <p:spPr>
          <a:xfrm>
            <a:off x="304920" y="331920"/>
            <a:ext cx="8458200" cy="57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Финансовые условия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Стоимость для одного иногороднего участника выставки в сутки (не включая расходы на проезд участников к городу проведения мероприятия) составляют: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Проживание в гостинице – 800,00 рублей в сутки на 1 человека (2-х местный номер);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Расходы на организованное двухразовое питание – 250,00 рублей;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Расходы на организацию культурной программы 150,00 рублей;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Организационные расходы - 500,00 рублей.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lvl="1" marL="457200" algn="just"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Суммарные расходы на одного участника мероприятия с учётом проживания (3 ночи) – 3550,00 рублей</a:t>
            </a:r>
            <a:r>
              <a:rPr b="0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96" name="Picture 4" descr="bØ"/>
          <p:cNvPicPr/>
          <p:nvPr/>
        </p:nvPicPr>
        <p:blipFill>
          <a:blip r:embed="rId1"/>
          <a:stretch/>
        </p:blipFill>
        <p:spPr>
          <a:xfrm>
            <a:off x="7523280" y="171360"/>
            <a:ext cx="1365120" cy="650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Rectangle 5" descr=""/>
          <p:cNvPicPr/>
          <p:nvPr/>
        </p:nvPicPr>
        <p:blipFill>
          <a:blip r:embed="rId1"/>
          <a:stretch/>
        </p:blipFill>
        <p:spPr>
          <a:xfrm>
            <a:off x="298440" y="212760"/>
            <a:ext cx="8394840" cy="2268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"/>
          <p:cNvSpPr/>
          <p:nvPr/>
        </p:nvSpPr>
        <p:spPr>
          <a:xfrm>
            <a:off x="304920" y="5188320"/>
            <a:ext cx="8534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Сайт муниципального методического центра г.Снежинска: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www.mmc.vega-int.ru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Наш электронный адрес: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dtdm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_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snz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@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mail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.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ru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Факс: 8 (351 46) 32013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Телефон директора 8 (351 46) 32838 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2"/>
          <a:stretch/>
        </p:blipFill>
        <p:spPr>
          <a:xfrm>
            <a:off x="1905120" y="1676520"/>
            <a:ext cx="5181480" cy="3468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bØ"/>
          <p:cNvPicPr/>
          <p:nvPr/>
        </p:nvPicPr>
        <p:blipFill>
          <a:blip r:embed="rId1"/>
          <a:stretch/>
        </p:blipFill>
        <p:spPr>
          <a:xfrm>
            <a:off x="7523280" y="171360"/>
            <a:ext cx="1492200" cy="706680"/>
          </a:xfrm>
          <a:prstGeom prst="rect">
            <a:avLst/>
          </a:prstGeom>
          <a:ln w="0">
            <a:noFill/>
          </a:ln>
        </p:spPr>
      </p:pic>
      <p:sp>
        <p:nvSpPr>
          <p:cNvPr id="47" name="TextBox 5"/>
          <p:cNvSpPr/>
          <p:nvPr/>
        </p:nvSpPr>
        <p:spPr>
          <a:xfrm>
            <a:off x="457200" y="3429000"/>
            <a:ext cx="82296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Задачи: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ыявление и поддержка одаренной и талантливой молодёжи;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азвитие исследовательской компетенции и профессиональных интересов молодых исследователей;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Укрепление творческих связей общеобразовательных учреждений, учреждений дополнительного образования с ВУЗами, научно-исследовательскими коллективами.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8" name="TextBox 7"/>
          <p:cNvSpPr/>
          <p:nvPr/>
        </p:nvSpPr>
        <p:spPr>
          <a:xfrm>
            <a:off x="380880" y="228600"/>
            <a:ext cx="8458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Цель: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Times New Roman"/>
              </a:rPr>
              <a:t>Создание условий для развития научно-исследовательской,     рационализаторской, изобретательской и познавательной деятельности школьников, вовлечение в сферу инженерного творчества,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укрепление творческих связей городов, расположенных на территории присутствия предприятий Госроскорпорации «Росатом» в организации научно-исследовательской работы со школьниками.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5"/>
          <p:cNvSpPr/>
          <p:nvPr/>
        </p:nvSpPr>
        <p:spPr>
          <a:xfrm>
            <a:off x="380880" y="16920"/>
            <a:ext cx="845820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ата проведения выставки: 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            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10-11 декабря 2011 года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частники: 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олодые исследователи в возрасте от 11 до 17 лет - школьники образовательных учреждений городов, расположенных на территории присутствия предприятий Госроскорпорации «Росатом» - лауреаты, дипломанты научно-технических муниципальных конкурсов, конференций, выставок.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50" name="Picture 8" descr=""/>
          <p:cNvPicPr/>
          <p:nvPr/>
        </p:nvPicPr>
        <p:blipFill>
          <a:blip r:embed="rId1"/>
          <a:stretch/>
        </p:blipFill>
        <p:spPr>
          <a:xfrm>
            <a:off x="457200" y="3905280"/>
            <a:ext cx="3552840" cy="2647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bØ"/>
          <p:cNvPicPr/>
          <p:nvPr/>
        </p:nvPicPr>
        <p:blipFill>
          <a:blip r:embed="rId2"/>
          <a:stretch/>
        </p:blipFill>
        <p:spPr>
          <a:xfrm>
            <a:off x="7523280" y="171360"/>
            <a:ext cx="1492200" cy="706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"/>
          <p:cNvPicPr/>
          <p:nvPr/>
        </p:nvPicPr>
        <p:blipFill>
          <a:blip r:embed="rId3"/>
          <a:stretch/>
        </p:blipFill>
        <p:spPr>
          <a:xfrm>
            <a:off x="6705720" y="3886200"/>
            <a:ext cx="2057400" cy="27432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4"/>
          <a:stretch/>
        </p:blipFill>
        <p:spPr>
          <a:xfrm>
            <a:off x="4343400" y="3886200"/>
            <a:ext cx="2057400" cy="2743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304920" y="145440"/>
            <a:ext cx="8610480" cy="628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6666"/>
                </a:solidFill>
                <a:latin typeface="Garamond"/>
                <a:ea typeface="Times New Roman"/>
              </a:rPr>
              <a:t>  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словия и порядок участия в мероприятии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а выставку принимаются научно-исследовательские работы, прошедшие конкурсный отбор на муниципальном уровне, по направлениям: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Естественные науки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lvl="2" marL="914400">
              <a:lnSpc>
                <a:spcPct val="15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Математика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lvl="2" marL="914400">
              <a:lnSpc>
                <a:spcPct val="15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Физика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нженерные науки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lvl="2" marL="914400">
              <a:lnSpc>
                <a:spcPct val="15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Техника и инженерное дело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lvl="2" marL="914400">
              <a:lnSpc>
                <a:spcPct val="15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 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Вычислительная техника и программное обеспечение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Науки о природе и человеке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lvl="2" marL="914400">
              <a:lnSpc>
                <a:spcPct val="15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   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Науки об окружающей среде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55" name="Picture 4" descr="bØ"/>
          <p:cNvPicPr/>
          <p:nvPr/>
        </p:nvPicPr>
        <p:blipFill>
          <a:blip r:embed="rId1"/>
          <a:stretch/>
        </p:blipFill>
        <p:spPr>
          <a:xfrm>
            <a:off x="7523280" y="171360"/>
            <a:ext cx="1492200" cy="706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Box 1"/>
          <p:cNvSpPr/>
          <p:nvPr/>
        </p:nvSpPr>
        <p:spPr>
          <a:xfrm>
            <a:off x="1162800" y="304920"/>
            <a:ext cx="592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Демонстрация выставочного проекта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57" name="Picture 4" descr="bØ"/>
          <p:cNvPicPr/>
          <p:nvPr/>
        </p:nvPicPr>
        <p:blipFill>
          <a:blip r:embed="rId1"/>
          <a:stretch/>
        </p:blipFill>
        <p:spPr>
          <a:xfrm>
            <a:off x="7523280" y="171360"/>
            <a:ext cx="1492200" cy="706680"/>
          </a:xfrm>
          <a:prstGeom prst="rect">
            <a:avLst/>
          </a:prstGeom>
          <a:ln w="0">
            <a:noFill/>
          </a:ln>
        </p:spPr>
      </p:pic>
      <p:sp>
        <p:nvSpPr>
          <p:cNvPr id="58" name="TextBox 8"/>
          <p:cNvSpPr/>
          <p:nvPr/>
        </p:nvSpPr>
        <p:spPr>
          <a:xfrm>
            <a:off x="391320" y="1143000"/>
            <a:ext cx="84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частнику предоставляется: стенд,  стол,  технические средства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59" name="TextBox 9"/>
          <p:cNvSpPr/>
          <p:nvPr/>
        </p:nvSpPr>
        <p:spPr>
          <a:xfrm>
            <a:off x="380880" y="1752480"/>
            <a:ext cx="49532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бязательными элементами демонстрации являются: 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научная статья, 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аннотация,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план исследований,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дневник регистрации данных,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для работ, содержащих программный продукт – компьютер с демонстрационной программой. 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2"/>
          <a:stretch/>
        </p:blipFill>
        <p:spPr>
          <a:xfrm>
            <a:off x="5257800" y="1828800"/>
            <a:ext cx="3328920" cy="43070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Box 4"/>
          <p:cNvSpPr/>
          <p:nvPr/>
        </p:nvSpPr>
        <p:spPr>
          <a:xfrm>
            <a:off x="304920" y="38088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Критерии оценки исследовательских работ 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участников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ставки: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228600" y="1828800"/>
            <a:ext cx="5943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актуальность темы;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омпозиция работы;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обоснованность исследовательских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методов;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63" name="TextBox 6"/>
          <p:cNvSpPr/>
          <p:nvPr/>
        </p:nvSpPr>
        <p:spPr>
          <a:xfrm>
            <a:off x="228600" y="3718080"/>
            <a:ext cx="89154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логика перехода от концепции к выводам;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уровень проработанности решения проблемы;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новизна полученных результатов;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качество оформления и защиты работы;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офессионализм участника при обсуждении работы с экспертами.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rcRect l="0" t="14551" r="0" b="0"/>
          <a:stretch/>
        </p:blipFill>
        <p:spPr>
          <a:xfrm>
            <a:off x="5715000" y="304920"/>
            <a:ext cx="3152880" cy="3597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Группа 29"/>
          <p:cNvGrpSpPr/>
          <p:nvPr/>
        </p:nvGrpSpPr>
        <p:grpSpPr>
          <a:xfrm>
            <a:off x="6172200" y="533520"/>
            <a:ext cx="2438280" cy="3352680"/>
            <a:chOff x="6172200" y="533520"/>
            <a:chExt cx="2438280" cy="3352680"/>
          </a:xfrm>
        </p:grpSpPr>
        <p:pic>
          <p:nvPicPr>
            <p:cNvPr id="66" name="Picture 19" descr=""/>
            <p:cNvPicPr/>
            <p:nvPr/>
          </p:nvPicPr>
          <p:blipFill>
            <a:blip r:embed="rId1"/>
            <a:stretch/>
          </p:blipFill>
          <p:spPr>
            <a:xfrm>
              <a:off x="6172200" y="533520"/>
              <a:ext cx="2438280" cy="22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20"/>
            <p:cNvSpPr/>
            <p:nvPr/>
          </p:nvSpPr>
          <p:spPr>
            <a:xfrm>
              <a:off x="6172200" y="2438640"/>
              <a:ext cx="2438280" cy="1447560"/>
            </a:xfrm>
            <a:prstGeom prst="rect">
              <a:avLst/>
            </a:pr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lnSpc>
                  <a:spcPct val="5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151516"/>
                  </a:solidFill>
                  <a:latin typeface="Arial"/>
                </a:rPr>
                <a:t>Александр Кириллович</a:t>
              </a:r>
              <a:endParaRPr b="0" lang="en-US" sz="14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151516"/>
                  </a:solidFill>
                  <a:latin typeface="Arial"/>
                </a:rPr>
                <a:t>Музыря</a:t>
              </a:r>
              <a:endParaRPr b="0" lang="en-US" sz="14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151516"/>
                  </a:solidFill>
                  <a:latin typeface="Arial"/>
                </a:rPr>
                <a:t>РФЯЦ ВНИИТФ НИО-4</a:t>
              </a:r>
              <a:endParaRPr b="0" lang="en-US" sz="12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151516"/>
                  </a:solidFill>
                  <a:latin typeface="Arial"/>
                </a:rPr>
                <a:t>Заместитель начальника отделения по НИР,</a:t>
              </a:r>
              <a:endParaRPr b="0" lang="en-US" sz="12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151516"/>
                  </a:solidFill>
                  <a:latin typeface="Arial"/>
                </a:rPr>
                <a:t>старший научный сотрудник,</a:t>
              </a:r>
              <a:endParaRPr b="0" lang="en-US" sz="12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151516"/>
                  </a:solidFill>
                  <a:latin typeface="Arial"/>
                </a:rPr>
                <a:t>кандидат технических наук</a:t>
              </a:r>
              <a:endParaRPr b="0" lang="en-US" sz="12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grpSp>
        <p:nvGrpSpPr>
          <p:cNvPr id="68" name="Группа 30"/>
          <p:cNvGrpSpPr/>
          <p:nvPr/>
        </p:nvGrpSpPr>
        <p:grpSpPr>
          <a:xfrm>
            <a:off x="228600" y="533520"/>
            <a:ext cx="2514600" cy="3317760"/>
            <a:chOff x="228600" y="533520"/>
            <a:chExt cx="2514600" cy="3317760"/>
          </a:xfrm>
        </p:grpSpPr>
        <p:pic>
          <p:nvPicPr>
            <p:cNvPr id="69" name="Picture 46" descr="H:\Рисунок1.jpg"/>
            <p:cNvPicPr/>
            <p:nvPr/>
          </p:nvPicPr>
          <p:blipFill>
            <a:blip r:embed="rId2"/>
            <a:stretch/>
          </p:blipFill>
          <p:spPr>
            <a:xfrm>
              <a:off x="228600" y="533520"/>
              <a:ext cx="2490480" cy="190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24"/>
            <p:cNvSpPr/>
            <p:nvPr/>
          </p:nvSpPr>
          <p:spPr>
            <a:xfrm>
              <a:off x="228600" y="2286000"/>
              <a:ext cx="2514600" cy="1565280"/>
            </a:xfrm>
            <a:prstGeom prst="rect">
              <a:avLst/>
            </a:pr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lnSpc>
                  <a:spcPct val="5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151516"/>
                  </a:solidFill>
                  <a:latin typeface="Arial"/>
                </a:rPr>
                <a:t>Валентин Фёдорович</a:t>
              </a:r>
              <a:endParaRPr b="0" lang="en-US" sz="14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151516"/>
                  </a:solidFill>
                  <a:latin typeface="Arial"/>
                </a:rPr>
                <a:t>Куропатенко</a:t>
              </a:r>
              <a:endParaRPr b="0" lang="en-US" sz="14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151516"/>
                  </a:solidFill>
                  <a:latin typeface="Arial"/>
                </a:rPr>
                <a:t>РФЯЦ ВНИИТФ НТО-1</a:t>
              </a:r>
              <a:endParaRPr b="0" lang="en-US" sz="12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151516"/>
                  </a:solidFill>
                  <a:latin typeface="Arial"/>
                </a:rPr>
                <a:t>главный научный сотрудник</a:t>
              </a:r>
              <a:endParaRPr b="0" lang="en-US" sz="12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151516"/>
                  </a:solidFill>
                  <a:latin typeface="Arial"/>
                </a:rPr>
                <a:t>Доктор ф.м.н., профессор, Лауреат</a:t>
              </a:r>
              <a:endParaRPr b="0" lang="en-US" sz="12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151516"/>
                  </a:solidFill>
                  <a:latin typeface="Arial"/>
                </a:rPr>
                <a:t> </a:t>
              </a:r>
              <a:r>
                <a:rPr b="0" lang="ru-RU" sz="1200" spc="-1" strike="noStrike">
                  <a:solidFill>
                    <a:srgbClr val="151516"/>
                  </a:solidFill>
                  <a:latin typeface="Arial"/>
                </a:rPr>
                <a:t>государственной премии СССР,</a:t>
              </a:r>
              <a:endParaRPr b="0" lang="en-US" sz="12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151516"/>
                  </a:solidFill>
                  <a:latin typeface="Arial"/>
                </a:rPr>
                <a:t>Заслуженный деятель науки РФ</a:t>
              </a:r>
              <a:endParaRPr b="0" lang="en-US" sz="12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pic>
        <p:nvPicPr>
          <p:cNvPr id="71" name="Picture 34" descr="100_1583"/>
          <p:cNvPicPr/>
          <p:nvPr/>
        </p:nvPicPr>
        <p:blipFill>
          <a:blip r:embed="rId3"/>
          <a:stretch/>
        </p:blipFill>
        <p:spPr>
          <a:xfrm>
            <a:off x="6172200" y="4038480"/>
            <a:ext cx="2514600" cy="2605320"/>
          </a:xfrm>
          <a:prstGeom prst="rect">
            <a:avLst/>
          </a:prstGeom>
          <a:ln w="0">
            <a:noFill/>
          </a:ln>
        </p:spPr>
      </p:pic>
      <p:grpSp>
        <p:nvGrpSpPr>
          <p:cNvPr id="72" name="Группа 28"/>
          <p:cNvGrpSpPr/>
          <p:nvPr/>
        </p:nvGrpSpPr>
        <p:grpSpPr>
          <a:xfrm>
            <a:off x="228600" y="4038480"/>
            <a:ext cx="2514600" cy="2590920"/>
            <a:chOff x="228600" y="4038480"/>
            <a:chExt cx="2514600" cy="2590920"/>
          </a:xfrm>
        </p:grpSpPr>
        <p:pic>
          <p:nvPicPr>
            <p:cNvPr id="73" name="Picture 53" descr=""/>
            <p:cNvPicPr/>
            <p:nvPr/>
          </p:nvPicPr>
          <p:blipFill>
            <a:blip r:embed="rId4"/>
            <a:stretch/>
          </p:blipFill>
          <p:spPr>
            <a:xfrm>
              <a:off x="228600" y="4038480"/>
              <a:ext cx="2486160" cy="205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54"/>
            <p:cNvSpPr/>
            <p:nvPr/>
          </p:nvSpPr>
          <p:spPr>
            <a:xfrm>
              <a:off x="228600" y="5638680"/>
              <a:ext cx="2514600" cy="990720"/>
            </a:xfrm>
            <a:prstGeom prst="rect">
              <a:avLst/>
            </a:pr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lnSpc>
                  <a:spcPct val="5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151516"/>
                  </a:solidFill>
                  <a:latin typeface="Arial"/>
                </a:rPr>
                <a:t>Владимир Михайлович</a:t>
              </a:r>
              <a:endParaRPr b="0" lang="en-US" sz="12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151516"/>
                  </a:solidFill>
                  <a:latin typeface="Arial"/>
                </a:rPr>
                <a:t>Дерябин</a:t>
              </a:r>
              <a:endParaRPr b="0" lang="en-US" sz="12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151516"/>
                  </a:solidFill>
                  <a:latin typeface="Arial"/>
                </a:rPr>
                <a:t>Начальник </a:t>
              </a:r>
              <a:endParaRPr b="0" lang="en-US" sz="12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151516"/>
                  </a:solidFill>
                  <a:latin typeface="Arial"/>
                </a:rPr>
                <a:t>ФГУЗ ЦМСЧ-15 ФМБА России</a:t>
              </a:r>
              <a:endParaRPr b="0" lang="en-US" sz="12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151516"/>
                  </a:solidFill>
                  <a:latin typeface="Arial"/>
                </a:rPr>
                <a:t>Заслуженный врач РФ</a:t>
              </a:r>
              <a:endParaRPr b="0" lang="en-US" sz="12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grpSp>
        <p:nvGrpSpPr>
          <p:cNvPr id="75" name="Группа 18"/>
          <p:cNvGrpSpPr/>
          <p:nvPr/>
        </p:nvGrpSpPr>
        <p:grpSpPr>
          <a:xfrm>
            <a:off x="3124080" y="533520"/>
            <a:ext cx="2590920" cy="3352680"/>
            <a:chOff x="3124080" y="533520"/>
            <a:chExt cx="2590920" cy="3352680"/>
          </a:xfrm>
        </p:grpSpPr>
        <p:pic>
          <p:nvPicPr>
            <p:cNvPr id="76" name="Picture 62" descr=""/>
            <p:cNvPicPr/>
            <p:nvPr/>
          </p:nvPicPr>
          <p:blipFill>
            <a:blip r:embed="rId5"/>
            <a:stretch/>
          </p:blipFill>
          <p:spPr>
            <a:xfrm>
              <a:off x="3124080" y="533520"/>
              <a:ext cx="259092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Text Box 63"/>
            <p:cNvSpPr/>
            <p:nvPr/>
          </p:nvSpPr>
          <p:spPr>
            <a:xfrm>
              <a:off x="3124080" y="2819520"/>
              <a:ext cx="2590920" cy="1066680"/>
            </a:xfrm>
            <a:prstGeom prst="rect">
              <a:avLst/>
            </a:pr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lnSpc>
                  <a:spcPct val="5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151516"/>
                  </a:solidFill>
                  <a:latin typeface="Arial"/>
                </a:rPr>
                <a:t>Олег Павлович</a:t>
              </a:r>
              <a:endParaRPr b="0" lang="en-US" sz="14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151516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151516"/>
                  </a:solidFill>
                  <a:latin typeface="Arial"/>
                </a:rPr>
                <a:t>Карпов</a:t>
              </a:r>
              <a:endParaRPr b="0" lang="en-US" sz="14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151516"/>
                  </a:solidFill>
                  <a:latin typeface="Arial"/>
                </a:rPr>
                <a:t>Заместитель Главы Снежинского </a:t>
              </a:r>
              <a:endParaRPr b="0" lang="en-US" sz="12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151516"/>
                  </a:solidFill>
                  <a:latin typeface="Arial"/>
                </a:rPr>
                <a:t>городского округа,</a:t>
              </a:r>
              <a:endParaRPr b="0" lang="en-US" sz="12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200" spc="-1" strike="noStrike">
                  <a:solidFill>
                    <a:srgbClr val="151516"/>
                  </a:solidFill>
                  <a:latin typeface="Arial"/>
                </a:rPr>
                <a:t>депутат</a:t>
              </a:r>
              <a:endParaRPr b="0" lang="en-US" sz="12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grpSp>
        <p:nvGrpSpPr>
          <p:cNvPr id="78" name="Группа 17"/>
          <p:cNvGrpSpPr/>
          <p:nvPr/>
        </p:nvGrpSpPr>
        <p:grpSpPr>
          <a:xfrm>
            <a:off x="3200400" y="4038480"/>
            <a:ext cx="2514600" cy="2590920"/>
            <a:chOff x="3200400" y="4038480"/>
            <a:chExt cx="2514600" cy="2590920"/>
          </a:xfrm>
        </p:grpSpPr>
        <p:pic>
          <p:nvPicPr>
            <p:cNvPr id="79" name="Picture 70" descr="IMG_4811"/>
            <p:cNvPicPr/>
            <p:nvPr/>
          </p:nvPicPr>
          <p:blipFill>
            <a:blip r:embed="rId6">
              <a:lum bright="18000"/>
            </a:blip>
            <a:stretch/>
          </p:blipFill>
          <p:spPr>
            <a:xfrm>
              <a:off x="3200400" y="4038480"/>
              <a:ext cx="2514600" cy="242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Text Box 71"/>
            <p:cNvSpPr/>
            <p:nvPr/>
          </p:nvSpPr>
          <p:spPr>
            <a:xfrm>
              <a:off x="3200400" y="5486400"/>
              <a:ext cx="2514600" cy="1143000"/>
            </a:xfrm>
            <a:prstGeom prst="rect">
              <a:avLst/>
            </a:prstGeom>
            <a:solidFill>
              <a:srgbClr val="f0a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noAutofit/>
            </a:bodyPr>
            <a:p>
              <a:pPr algn="ctr">
                <a:lnSpc>
                  <a:spcPct val="5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151516"/>
                  </a:solidFill>
                  <a:latin typeface="Arial"/>
                </a:rPr>
                <a:t>Марина Юрьевна</a:t>
              </a:r>
              <a:endParaRPr b="0" lang="en-US" sz="12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151516"/>
                  </a:solidFill>
                  <a:latin typeface="Arial"/>
                </a:rPr>
                <a:t> </a:t>
              </a:r>
              <a:r>
                <a:rPr b="1" lang="ru-RU" sz="1200" spc="-1" strike="noStrike">
                  <a:solidFill>
                    <a:srgbClr val="151516"/>
                  </a:solidFill>
                  <a:latin typeface="Arial"/>
                </a:rPr>
                <a:t>Тышкевич</a:t>
              </a:r>
              <a:endParaRPr b="0" lang="en-US" sz="12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151516"/>
                  </a:solidFill>
                  <a:latin typeface="Arial"/>
                </a:rPr>
                <a:t>Зам.руководителя Снежинского</a:t>
              </a:r>
              <a:endParaRPr b="0" lang="en-US" sz="11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151516"/>
                  </a:solidFill>
                  <a:latin typeface="Arial"/>
                </a:rPr>
                <a:t> </a:t>
              </a:r>
              <a:r>
                <a:rPr b="1" lang="ru-RU" sz="1100" spc="-1" strike="noStrike">
                  <a:solidFill>
                    <a:srgbClr val="151516"/>
                  </a:solidFill>
                  <a:latin typeface="Arial"/>
                </a:rPr>
                <a:t>физико-технического института</a:t>
              </a:r>
              <a:endParaRPr b="0" lang="en-US" sz="11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151516"/>
                  </a:solidFill>
                  <a:latin typeface="Arial"/>
                </a:rPr>
                <a:t>НИЯУ МИФИ, </a:t>
              </a:r>
              <a:endParaRPr b="0" lang="en-US" sz="11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151516"/>
                  </a:solidFill>
                  <a:latin typeface="Arial"/>
                </a:rPr>
                <a:t>к.э.н., доцент</a:t>
              </a:r>
              <a:endParaRPr b="0" lang="en-US" sz="11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 u="sng">
                <a:solidFill>
                  <a:srgbClr val="ffffff"/>
                </a:solidFill>
                <a:uFillTx/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 u="sng">
                <a:solidFill>
                  <a:srgbClr val="ffffff"/>
                </a:solidFill>
                <a:uFillTx/>
                <a:latin typeface="Arial"/>
              </a:endParaRPr>
            </a:p>
          </p:txBody>
        </p:sp>
      </p:grpSp>
      <p:sp>
        <p:nvSpPr>
          <p:cNvPr id="81" name="TextBox 21"/>
          <p:cNvSpPr/>
          <p:nvPr/>
        </p:nvSpPr>
        <p:spPr>
          <a:xfrm>
            <a:off x="2286000" y="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Экспертный совет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2" name="Text Box 35"/>
          <p:cNvSpPr/>
          <p:nvPr/>
        </p:nvSpPr>
        <p:spPr>
          <a:xfrm>
            <a:off x="6172200" y="5715000"/>
            <a:ext cx="2514600" cy="914400"/>
          </a:xfrm>
          <a:prstGeom prst="rect">
            <a:avLst/>
          </a:prstGeom>
          <a:solidFill>
            <a:srgbClr val="f0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 algn="ctr">
              <a:lnSpc>
                <a:spcPct val="5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51516"/>
                </a:solidFill>
                <a:latin typeface="Arial"/>
              </a:rPr>
              <a:t>Александр Борисович </a:t>
            </a:r>
            <a:endParaRPr b="0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51516"/>
                </a:solidFill>
                <a:latin typeface="Arial"/>
              </a:rPr>
              <a:t>Горелов</a:t>
            </a:r>
            <a:endParaRPr b="0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51516"/>
                </a:solidFill>
                <a:latin typeface="Arial"/>
              </a:rPr>
              <a:t>начальник отдела по экологии </a:t>
            </a:r>
            <a:endParaRPr b="0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51516"/>
                </a:solidFill>
                <a:latin typeface="Arial"/>
              </a:rPr>
              <a:t>Администрации г.Снежинска</a:t>
            </a:r>
            <a:endParaRPr b="0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12"/>
          <p:cNvSpPr/>
          <p:nvPr/>
        </p:nvSpPr>
        <p:spPr>
          <a:xfrm>
            <a:off x="709200" y="228600"/>
            <a:ext cx="60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ограмма и график работы выставки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84" name="Picture 4" descr="bØ"/>
          <p:cNvPicPr/>
          <p:nvPr/>
        </p:nvPicPr>
        <p:blipFill>
          <a:blip r:embed="rId1"/>
          <a:stretch/>
        </p:blipFill>
        <p:spPr>
          <a:xfrm>
            <a:off x="7523280" y="171360"/>
            <a:ext cx="1365120" cy="650880"/>
          </a:xfrm>
          <a:prstGeom prst="rect">
            <a:avLst/>
          </a:prstGeom>
          <a:ln w="0">
            <a:noFill/>
          </a:ln>
        </p:spPr>
      </p:pic>
      <p:sp>
        <p:nvSpPr>
          <p:cNvPr id="85" name="TextBox 15"/>
          <p:cNvSpPr/>
          <p:nvPr/>
        </p:nvSpPr>
        <p:spPr>
          <a:xfrm>
            <a:off x="4724280" y="12193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86" name="TextBox 18"/>
          <p:cNvSpPr/>
          <p:nvPr/>
        </p:nvSpPr>
        <p:spPr>
          <a:xfrm>
            <a:off x="380880" y="609480"/>
            <a:ext cx="4800600" cy="60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9 декабря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заезд участников;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асселение в гостинице, 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формление демонстрационных стендов, подготовка к защите научно-исследовательских работ.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10 декабря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0.00 – Торжественное открытие Выставки (театральный зал Дворца творчества);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0.30 – 17.00 – работы Выставки;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3.00 – 14.00 – обед;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7.00 – полдник, свободное время;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8.00 – 19.30 – культурная программа.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87" name="Picture 17" descr="H:\от Морозовой\фото ЧГК\DSC_5299.JPG"/>
          <p:cNvPicPr/>
          <p:nvPr/>
        </p:nvPicPr>
        <p:blipFill>
          <a:blip r:embed="rId2"/>
          <a:stretch/>
        </p:blipFill>
        <p:spPr>
          <a:xfrm>
            <a:off x="5218200" y="4191120"/>
            <a:ext cx="3471840" cy="2286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3"/>
          <a:stretch/>
        </p:blipFill>
        <p:spPr>
          <a:xfrm>
            <a:off x="5257800" y="1219320"/>
            <a:ext cx="3357720" cy="2514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6"/>
          <p:cNvSpPr/>
          <p:nvPr/>
        </p:nvSpPr>
        <p:spPr>
          <a:xfrm>
            <a:off x="380880" y="609480"/>
            <a:ext cx="5257800" cy="34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ff00"/>
                </a:solidFill>
                <a:uFillTx/>
                <a:latin typeface="Arial"/>
              </a:rPr>
              <a:t>11 декабря </a:t>
            </a:r>
            <a:endParaRPr b="0" lang="en-US" sz="20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0.00 – 13.00 – работа Выставки;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3.00 – 14.00 – обед;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4.00 – 15.30 – экскурсии по городу, свободное время;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17.00 – Торжественное закрытие Выставки, Церемония награждения.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 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00"/>
                </a:solidFill>
                <a:uFillTx/>
                <a:latin typeface="Arial"/>
              </a:rPr>
              <a:t>12 декабря 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тъезд делегаций</a:t>
            </a:r>
            <a:endParaRPr b="0" lang="en-US" sz="18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90" name="TextBox 7"/>
          <p:cNvSpPr/>
          <p:nvPr/>
        </p:nvSpPr>
        <p:spPr>
          <a:xfrm>
            <a:off x="327960" y="304920"/>
            <a:ext cx="60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ограмма и график работы выставки</a:t>
            </a:r>
            <a:endParaRPr b="0" lang="en-US" sz="2400" spc="-1" strike="noStrike" u="sng">
              <a:solidFill>
                <a:srgbClr val="ffffff"/>
              </a:solidFill>
              <a:uFillTx/>
              <a:latin typeface="Arial"/>
            </a:endParaRPr>
          </a:p>
        </p:txBody>
      </p:sp>
      <p:pic>
        <p:nvPicPr>
          <p:cNvPr id="91" name="Picture 23" descr="100_0038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5486400" y="838080"/>
            <a:ext cx="3263760" cy="2895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"/>
          <p:cNvPicPr/>
          <p:nvPr/>
        </p:nvPicPr>
        <p:blipFill>
          <a:blip r:embed="rId2"/>
          <a:stretch/>
        </p:blipFill>
        <p:spPr>
          <a:xfrm>
            <a:off x="609480" y="4114800"/>
            <a:ext cx="3200400" cy="2397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3" descr="100_0159"/>
          <p:cNvPicPr/>
          <p:nvPr/>
        </p:nvPicPr>
        <p:blipFill>
          <a:blip r:embed="rId3"/>
          <a:stretch/>
        </p:blipFill>
        <p:spPr>
          <a:xfrm>
            <a:off x="5486400" y="4038480"/>
            <a:ext cx="3200400" cy="24004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bØ"/>
          <p:cNvPicPr/>
          <p:nvPr/>
        </p:nvPicPr>
        <p:blipFill>
          <a:blip r:embed="rId4"/>
          <a:stretch/>
        </p:blipFill>
        <p:spPr>
          <a:xfrm>
            <a:off x="7523280" y="171360"/>
            <a:ext cx="1365120" cy="650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лон</dc:creator>
  <dc:description/>
  <dc:language>en-US</dc:language>
  <cp:lastModifiedBy>Юдина Н.Г.</cp:lastModifiedBy>
  <dcterms:modified xsi:type="dcterms:W3CDTF">2011-10-15T08:01:08Z</dcterms:modified>
  <cp:revision>1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