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8B33-EE47-4E51-89C6-7686FCFE78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7EC7-E844-4AEE-BA66-AF434A59778E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F8CD-BE3A-4159-B6C5-82876F57A53B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D8DC-2E4C-485A-8540-A438DA4B8E1C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F3F9-AE81-46FD-BF80-2826721ECE87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BC68-89C8-4EC3-8A6B-B404032DD7F8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F4FA-C7E5-42C2-B1FE-602EAB56488E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875E-D684-4C17-917A-700235E15CBF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17C6-28F3-4AF5-A0D5-C7AB3F205251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1EBA-12E9-4547-BA6A-6CFFBFDB7B8F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20BA-819C-403F-BCEE-A9ACEF31E250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8357-435F-42AF-B9BC-5F843613955A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5AD-8BD9-45B4-8CEB-A89E396B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E5C-99B0-4949-915A-CB650977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698A8-F6A9-401D-B7FF-5B66E726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66304-557F-4D62-AC75-88052C1A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A9448-D4B5-4177-8B28-D848D1E5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58774-01A1-46F6-A60E-6A9584FC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0C763-61A7-42ED-9F9C-BBFA9DC6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D67DE-FFE6-467A-A63D-FB89A5E8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78094-0172-4264-BF51-BEABF3FA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D50A2-8498-4C67-B7FA-68F80CF7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ED2FA-AE44-4630-BDF8-BFAC37EE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37559-B468-4284-8C4D-4987F3E1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23D-3615-466E-81E5-07947BF2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95503-5680-4F5E-8E46-1A72631C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A82E1-724D-45D6-A493-CE0664A2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B86C9-E23E-4B24-88DD-533C952A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47D53-E603-4BCA-AB9D-545AE850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5E141-D440-4E66-B2AF-F57D7C65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594C9-AFAC-4DC7-8A07-B653B583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F19A6-F6F0-4D07-9FC0-F64C0305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77319-CF50-4078-86D7-12F3AF6C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16A21-92EC-4F3C-A0F0-33D5B00F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056A4-1D7F-4895-8153-0BEA226C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0BB-F481-4567-9532-53EBCB19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95D06-DFAC-4AB9-BB21-EDC4BEC2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2BAFD-DFC4-44FA-81E3-4FB702E5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EFAA3-9E8F-49B0-8FDD-EF35D7F8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B9EB4-2135-4F42-8444-A91C363D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2B274-601A-4E6D-87BE-59FB5E85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4DFAA-61B0-49B3-A29B-F439808D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9FE39-F0C8-4DC5-BBCE-98783660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4E243-9DC1-4FF2-ACFD-B7BC3595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1FA8B-0F75-4F31-873E-FB4FDE3D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5D591-C1DA-42AE-894D-268216B6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F125-B54E-4C13-8B4A-DCD8DCE4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D2894-F1CC-4EFE-94D1-2AAA1BA6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F8696-1B5C-455B-8991-ACD33847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30FA0-688B-4643-A787-10290311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F3C3F-001F-4BF8-AD77-8CB2C164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A2CFC-D30B-4CE3-8BAD-D4133846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26722-D29A-4910-861F-270B5395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ADD54-CE33-4561-BBAC-A42D6175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4EF49-31E1-4C64-A2B1-17089B77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8CB3D-A891-4336-B807-0FF4CCA2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E202E-57AF-47A9-833F-3B6A5739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CDEE-2134-4C44-830B-F932B15C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79491-94FF-49E7-80FF-9E257A63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C33D1-D09F-4661-968C-4C888807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8938E-3845-4EC4-BEEE-B7DB8602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6A250-3875-4518-A0DA-9F3DB028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7646E-4E0F-423D-A28A-4EC95127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2558-23C2-4549-97B9-FADA7B46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F9C7-6A82-4569-A7FF-2185DB96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DA16-8836-440D-B9D4-52118564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6740-51B4-44F7-A10F-67D69860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7A92-AE33-4C5E-89AA-DAA474C2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89C-D65F-4E10-91A7-DC7BEF88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320A-7F9B-45ED-9FE6-1157788B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ADB9-3C87-47A7-8D77-4B746A0B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B50D-1108-4B86-9A85-63A3AAE6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31D9-3053-471D-AAD6-C8E5E3E9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512E-FF12-433D-AF91-5D566FBD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EDC69-2768-40E5-8909-19365F40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F5EE8-E32E-4222-BC08-4090A1EA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D825D-C65B-4E1A-8D27-C3B0B5B6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7B41D-9488-4448-ADCA-5C3A72EC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CF46F-AB9D-47D9-A141-CE1B6941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AB0-CAF6-4537-AB06-22BE66D4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26B10-8809-468F-A6E2-C1369E79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C8D91-C960-42AA-B20D-39FACB6A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D532-1479-4A7E-9D23-1F8F285D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FBA22-C5DA-42DF-A2A2-B354F64D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95693-9806-4D26-832A-299A1F59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6C7C-8B05-4256-98A7-5D746B66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2E839-46E0-4846-8A85-C315B91D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7E82C-B3FF-46A5-9FCD-169887EA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DDC03-6FC7-4E7C-AC2A-6681F30E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268FD-86CF-456A-B99A-CBF05FD5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897-8119-47F8-A254-FEDEE34E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E6A60-BD93-4A0D-B355-EED1CD09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8549A-CF7B-41DD-B9DA-43D4E334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D17B8-A691-4918-9B1F-92C91064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4D58A-6D4B-40F4-8FC1-6D95C31E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72081-5B91-4705-A79F-4643EBB3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3ED5A-651E-44F8-BA0C-785935A3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10B99-7A4A-47FD-8599-D6D51481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E020E-D4BD-457B-8B98-A26977B5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05AEC-A2D9-4872-8D3C-BE4C3A82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3FA23-DA5D-4A8A-8620-DD6B9C95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631-59E8-4867-AA68-83415909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A911E-8C51-4969-9414-B6884C91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6B611-ECB3-4456-A66A-5E7C19D0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6DEDD-DED4-4025-9474-F2C2E8C9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92AAB-0503-4984-84B7-DCCD197F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D612B-ED83-4720-99B1-41262ACB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FA89C-89B3-487C-8DA9-024DBE95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6348A-C80C-4F1A-BE0B-D04AC998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E2ADA-06E7-4E0F-ABBA-37D4B8F2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EB12D-D501-4E88-8367-9B3DA171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90ABC-6BD1-4A40-ADE9-4E08B266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E3F-8C8F-474C-934C-CEE3649F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0DCD5-0F3C-48CF-979F-90AE73B3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D9D80-3A70-435A-9C6C-71595FF9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A2802-D94B-40F7-BB0F-1E494857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B1E4F-3701-49E7-826F-FED0D092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6C707-194D-45E7-BF19-B5670956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39E13-577E-4B55-BB57-6A02533F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CD055-0BD2-48AA-96BC-2B9C3879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4CA3F-DB2F-47DF-A1BA-26DFC053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7AD0C-681B-46A0-A2F3-CBC67D05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30770-ECE5-4C8F-82D9-8DA8F96A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F70-DA76-4DB7-A7BA-D985BDAD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40BCE-467A-4CAE-ACE7-2D621D3C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40624-09C6-4AC1-A403-676B9437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10DAF-2938-4FB7-81DA-B108371F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09BF2-A3DB-41BA-8E98-05FBE4EB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916BB-4DB6-4CE8-8947-A7C03B8C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FBCC2-D659-43FA-AE3B-009F1147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0DC74-03D6-495A-B24F-1B0300E1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97188-6B44-48AA-895A-AF0C94B8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0265C-A0EC-4468-A54B-85CDB26F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8B2E9-C82A-44F5-AC63-7837A87C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CD3-8A3C-4E44-8E76-3FFBAF3D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0EFF9-7D96-47EF-8710-5D57B316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886D3-7997-43BE-80C3-9AE937EF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2C943-A6BC-42E8-B9BB-7F3C3856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CB068-B368-4989-8369-78238BF5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13D67-AF29-4942-AC33-BFA4EC16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43F69-9A84-4625-8254-97F9C7FE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02365-C7FF-45B1-B457-B16F3BDD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618C8-DAD0-4DC6-8FF0-2604936B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64071-4BE6-4A40-9E63-BA8B6181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C3785-5BDE-4290-9500-C26D8A07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FFF-9A3D-45BE-A74A-2DFFE63E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D6AD6-BB71-4045-88B8-531EAEBC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C3D58-CA4B-42BD-A5FD-6F34FF7A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B4964-5676-4941-9B9C-EFFD32CE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595FD-A283-45A9-B05F-D0783EE9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37074-5E59-444C-B30E-49055FD6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BF056-C59C-49FE-A337-180396B1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37545-C570-4497-A1C7-BDA57B34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37EC1-06EC-40D1-8DEF-1A5AB3CF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D194F-1108-4C93-8001-96F3B526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55353-1DFD-4D2B-93B8-DDBFE568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4AB6-C840-4AB8-ACBB-77D2168E68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E890-E6E3-4D8C-BCA3-D89230850E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F066-C6CA-4C86-8C10-C78DCE1891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612E-80CE-4BCE-8843-DF355D298EAE}" type="slidenum"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44DD-4293-443F-AB55-6B1FD6A01E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2C0C-0777-4DFF-B9A2-B28977E538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00C7-DD37-4361-8E97-7FE8C39B48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7EE8-F9BE-4396-8385-22AFD965B0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6CAB-3CF9-4ED5-8554-A9731F52FC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7D70-EE08-44A0-9000-4A5B30473C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DB8B-463A-46CF-89E7-485CB6822A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C2F1-2A07-4A5A-9139-E596603800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56000" y="4508640"/>
            <a:ext cx="619272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Маслакова Вера Николаевна, 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директор МБОУ «Гимназия № 127»</a:t>
            </a:r>
            <a:r>
              <a:rPr b="1" lang="ru-RU" sz="3200" spc="-1" strike="noStrike">
                <a:solidFill>
                  <a:srgbClr val="080808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403280" y="76464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80808"/>
                </a:solidFill>
                <a:latin typeface="Georgia"/>
              </a:rPr>
              <a:t>Механизмы введения НСОТ и повышения заработной платы в муниципальном бюджетном общеобразовательном учреждении «Гимназия № 127»</a:t>
            </a:r>
            <a:endParaRPr b="0" lang="en-US" sz="3100" spc="-1" strike="noStrike">
              <a:solidFill>
                <a:srgbClr val="080808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280" y="75960"/>
            <a:ext cx="824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Georgia"/>
              </a:rPr>
              <a:t>Механизмы повышения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Georgia"/>
              </a:rPr>
              <a:t>заработной платы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47640" y="1341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80808"/>
                </a:solidFill>
                <a:latin typeface="Georgia"/>
              </a:rPr>
              <a:t>Привлечение внебюджетных средств  (тысячи рублей)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1643040" y="2276640"/>
          <a:ext cx="7321680" cy="3960720"/>
        </p:xfrm>
        <a:graphic>
          <a:graphicData uri="http://schemas.openxmlformats.org/drawingml/2006/table">
            <a:tbl>
              <a:tblPr/>
              <a:tblGrid>
                <a:gridCol w="1905120"/>
                <a:gridCol w="2077920"/>
                <a:gridCol w="3338640"/>
              </a:tblGrid>
              <a:tr h="114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Расходы на заработную плату и страховые взносы</a:t>
                      </a:r>
                      <a:r>
                        <a:rPr b="1" lang="ru-RU" sz="1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</a:tr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2009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923,6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794,7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2010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1093,7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669,8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</a:tr>
              <a:tr h="93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2011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1345,1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922,5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pull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907640" y="2204640"/>
            <a:ext cx="676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Georgia"/>
              </a:rPr>
              <a:t>Механизмы введения НСОТ и повышения заработной платы в МБОУ «Гимназия № 127»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1547640" y="189000"/>
            <a:ext cx="720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Маслакова Вера Николаевна, 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директор МБОУ «Гимназия № 127»</a:t>
            </a:r>
            <a:r>
              <a:rPr b="1" lang="ru-RU" sz="3200" spc="-1" strike="noStrike">
                <a:solidFill>
                  <a:srgbClr val="080808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75960"/>
            <a:ext cx="8366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Georgia"/>
              </a:rPr>
              <a:t>Фонд оплаты труда гимназии формируют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71400" y="1499760"/>
            <a:ext cx="7391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80808"/>
                </a:solidFill>
                <a:latin typeface="Georgia"/>
              </a:rPr>
              <a:t>областная субвенция </a:t>
            </a:r>
            <a:r>
              <a:rPr b="0" lang="ru-RU" sz="2500" spc="-1" strike="noStrike">
                <a:solidFill>
                  <a:srgbClr val="080808"/>
                </a:solidFill>
                <a:latin typeface="Georgia"/>
              </a:rPr>
              <a:t>(ФОТ по нормативу)</a:t>
            </a:r>
            <a:endParaRPr b="0" lang="en-US" sz="2500" spc="-1" strike="noStrike">
              <a:solidFill>
                <a:srgbClr val="080808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80808"/>
                </a:solidFill>
                <a:latin typeface="Georgia"/>
              </a:rPr>
              <a:t>муниципальный бюджет </a:t>
            </a:r>
            <a:r>
              <a:rPr b="0" lang="ru-RU" sz="2500" spc="-1" strike="noStrike">
                <a:solidFill>
                  <a:srgbClr val="080808"/>
                </a:solidFill>
                <a:latin typeface="Georgia"/>
              </a:rPr>
              <a:t>(дополнительные ставки административного, педагогического, учебно-вспомогательного, обслуживающего персонала)</a:t>
            </a:r>
            <a:endParaRPr b="0" lang="en-US" sz="2500" spc="-1" strike="noStrike">
              <a:solidFill>
                <a:srgbClr val="080808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80808"/>
                </a:solidFill>
                <a:latin typeface="Georgia"/>
              </a:rPr>
              <a:t>фонд стимулирования </a:t>
            </a:r>
            <a:r>
              <a:rPr b="0" lang="ru-RU" sz="2500" spc="-1" strike="noStrike">
                <a:solidFill>
                  <a:srgbClr val="080808"/>
                </a:solidFill>
                <a:latin typeface="Georgia"/>
              </a:rPr>
              <a:t>(поощрение персонала по результатам деятельности)</a:t>
            </a:r>
            <a:endParaRPr b="0" lang="en-US" sz="2500" spc="-1" strike="noStrike">
              <a:solidFill>
                <a:srgbClr val="080808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80808"/>
                </a:solidFill>
                <a:latin typeface="Georgia"/>
              </a:rPr>
              <a:t>внебюджетные средства </a:t>
            </a:r>
            <a:r>
              <a:rPr b="0" lang="ru-RU" sz="2500" spc="-1" strike="noStrike">
                <a:solidFill>
                  <a:srgbClr val="080808"/>
                </a:solidFill>
                <a:latin typeface="Georgia"/>
              </a:rPr>
              <a:t>(платные образовательные  услуги - ставки педагогического, учебно-вспомогательного, обслуживающего персонала)</a:t>
            </a:r>
            <a:endParaRPr b="0" lang="en-US" sz="25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75960"/>
            <a:ext cx="8366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Georgia"/>
              </a:rPr>
              <a:t>Основания разработки, внесения изменений и применения Положения об оплате труда</a:t>
            </a:r>
            <a:endParaRPr b="0" lang="en-US" sz="2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71400" y="1357200"/>
            <a:ext cx="7391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80808"/>
                </a:solidFill>
                <a:latin typeface="Georgia"/>
              </a:rPr>
              <a:t>Трудовой кодекс Российской Федерации</a:t>
            </a:r>
            <a:endParaRPr b="0" lang="en-US" sz="23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80808"/>
                </a:solidFill>
                <a:latin typeface="Georgia"/>
              </a:rPr>
              <a:t>Постановления администрации города Снежинска от 01.09.2010 № 1420; от 06.10.2010 № 1576; от 22.10.2010 № 1700; от 21.06.2011 № 750</a:t>
            </a:r>
            <a:endParaRPr b="0" lang="en-US" sz="23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80808"/>
                </a:solidFill>
                <a:latin typeface="Georgia"/>
              </a:rPr>
              <a:t>Примерное положение об оплате труда работников образовательного учреждения (приказ Управления образования от 22.10.2010 № 107)</a:t>
            </a:r>
            <a:endParaRPr b="0" lang="en-US" sz="23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80808"/>
                </a:solidFill>
                <a:latin typeface="Georgia"/>
              </a:rPr>
              <a:t>Приказы Управления образования от 29.03.2011 № 17, от 22.08.2011 № 49 «О внесении изменений в Примерное положение об оплате труда работников»</a:t>
            </a:r>
            <a:endParaRPr b="0" lang="en-US" sz="23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strips dir="r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640" y="75960"/>
            <a:ext cx="8366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Georgia"/>
              </a:rPr>
              <a:t>Основные этапы работы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71400" y="1285920"/>
            <a:ext cx="7391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Georgia"/>
              </a:rPr>
              <a:t>Разработка Положения об оплате труда работников гимназии (приложение к коллективному договору)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Georgia"/>
              </a:rPr>
              <a:t>Разработка системы критериев распределения фонда стимулирования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Georgia"/>
              </a:rPr>
              <a:t>Проведение собрания коллектива гимназии по утверждению Коллективного договора, Положения об оплате труда, выборам экспертной комиссии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Georgia"/>
              </a:rPr>
              <a:t>Подготовка приказов по утверждению принятых документов, прохождение процедуры регистрации Коллективного договора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Georgia"/>
              </a:rPr>
              <a:t>Организация работы экспертной комиссии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strips dir="l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785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Состав экспертной комиссии – 11 человек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2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Georgia"/>
              </a:rPr>
              <a:t>Заместитель директора по учебной работе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Georgia"/>
              </a:rPr>
              <a:t>Заместитель директора по воспитательной работе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Georgia"/>
              </a:rPr>
              <a:t>Заместитель директора по АХР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Georgia"/>
              </a:rPr>
              <a:t>Диспетчер Учреждения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Georgia"/>
              </a:rPr>
              <a:t>Учителя от объединений: математика, русский язык и литература, иностранные языки, начальные классы, «естественники», «воспитательная работа»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Georgia"/>
              </a:rPr>
              <a:t>Профсоюз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75960"/>
            <a:ext cx="8104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Первые итоги введения НСОТ  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(сентябрь 2010 – январь 2011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835280" y="1916280"/>
          <a:ext cx="6840360" cy="45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916280"/>
                    <a:ext cx="6840360" cy="45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2050920" y="1268280"/>
            <a:ext cx="51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Georgia"/>
              </a:rPr>
              <a:t>Изменение размеров частей ФОТ (тысячи рублей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75960"/>
            <a:ext cx="8104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Первые итоги введения НСОТ  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(сентябрь 2010 – январь 2011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514" name="Содержимое 4"/>
          <p:cNvGraphicFramePr/>
          <p:nvPr/>
        </p:nvGraphicFramePr>
        <p:xfrm>
          <a:off x="1619280" y="1268280"/>
          <a:ext cx="7391520" cy="518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5" name="Содержимое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268280"/>
                    <a:ext cx="7391520" cy="51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280" y="75960"/>
            <a:ext cx="824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Georgia"/>
              </a:rPr>
              <a:t>Механизмы повышения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Georgia"/>
              </a:rPr>
              <a:t>заработной платы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517" name="Содержимое 6"/>
          <p:cNvGraphicFramePr/>
          <p:nvPr/>
        </p:nvGraphicFramePr>
        <p:xfrm>
          <a:off x="1332000" y="1916280"/>
          <a:ext cx="7812000" cy="46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8" name="Содержимое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916280"/>
                    <a:ext cx="78120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1619280" y="1268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Georgia"/>
              </a:rPr>
              <a:t>Увеличение субвенции на обеспечение государственных гарантий прав граждан в сфере образования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280" y="75960"/>
            <a:ext cx="824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Georgia"/>
              </a:rPr>
              <a:t>Механизмы повышения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Georgia"/>
              </a:rPr>
              <a:t>заработной платы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643040" y="2060640"/>
          <a:ext cx="7286760" cy="417672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  <a:gridCol w="1822680"/>
                <a:gridCol w="1820880"/>
              </a:tblGrid>
              <a:tr h="13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Число ставок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Экономия средств </a:t>
                      </a: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(тысячи рублей)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% ФОТ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</a:tr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2011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8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82,2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25,3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2012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5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48,1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40,1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</a:tr>
              <a:tr h="93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2013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4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33,3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50,3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22" name=""/>
          <p:cNvSpPr/>
          <p:nvPr/>
        </p:nvSpPr>
        <p:spPr>
          <a:xfrm>
            <a:off x="1619280" y="1419120"/>
            <a:ext cx="73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80808"/>
                </a:solidFill>
                <a:latin typeface="Georgia"/>
              </a:rPr>
              <a:t>Оптимизация штатной численности 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1:05:15Z</dcterms:created>
  <dc:creator>Вера</dc:creator>
  <dc:description/>
  <dc:language>en-US</dc:language>
  <cp:lastModifiedBy>V.N.Maslakova</cp:lastModifiedBy>
  <dcterms:modified xsi:type="dcterms:W3CDTF">2011-10-17T13:43:40Z</dcterms:modified>
  <cp:revision>15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9</vt:lpwstr>
  </property>
</Properties>
</file>