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3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8F5-A849-4F71-A5D4-3719D4265CB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BD6-B913-4801-A1CF-17978D05F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9D4-B7A5-4784-A4E9-C06337457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60C-8AF7-4881-B2A4-8C9FB2ACB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7F4-40A7-4DCF-AAD6-9BD0EC5D6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FA4-16D1-4993-A3DE-099F6BEE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6BF-CEFA-48E4-B8AB-1DB0D76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FB4-42D4-437D-9988-8DCC3C0B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67A-ED45-4F39-AD54-C1840D18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377-6170-47E7-9B99-627CCEE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B55-B3FF-45DC-8093-249DD5D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9DF-2857-4D2D-AD5E-7AF4B1D6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296-6A36-4041-AB4A-F00BA68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78B-33A0-4C92-92B3-C2B4B29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7C1-A25D-4026-BCF4-B00DE3F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C44-C37F-40D0-9BDE-4A4B69B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4E9-F177-47FD-BC21-9977D00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845A-0611-438A-AFEF-E39C061D5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40px-Coat_of_arms_of_Chelyabinsk_Oblast"/>
          <p:cNvPicPr/>
          <p:nvPr/>
        </p:nvPicPr>
        <p:blipFill>
          <a:blip r:embed="rId1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oat_of_Arms_of_Snezhinsk_(Chelyabinsk_oblast)"/>
          <p:cNvPicPr/>
          <p:nvPr/>
        </p:nvPicPr>
        <p:blipFill>
          <a:blip r:embed="rId2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10"/>
          <p:cNvGraphicFramePr/>
          <p:nvPr/>
        </p:nvGraphicFramePr>
        <p:xfrm>
          <a:off x="-684360" y="1633680"/>
          <a:ext cx="691056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33680"/>
                    <a:ext cx="69105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8"/>
          <p:cNvGraphicFramePr/>
          <p:nvPr/>
        </p:nvGraphicFramePr>
        <p:xfrm>
          <a:off x="3795840" y="3051000"/>
          <a:ext cx="6824520" cy="369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5840" y="3051000"/>
                    <a:ext cx="682452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оотношение частей ФОТ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школах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1224000" y="134136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I квартал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5689440" y="270828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Сентябрь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редняя заработная плата работников    дошкольных образовательных учреждений  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73280"/>
          <a:ext cx="8229600" cy="3268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14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е ра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П+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6 05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6 26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8 67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8 73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Изменение средней заработной платы работников МДОУ</a:t>
            </a:r>
            <a:r>
              <a:rPr b="1" lang="en-US" sz="2400" spc="-1" strike="noStrike">
                <a:solidFill>
                  <a:srgbClr val="cc0000"/>
                </a:solidFill>
                <a:latin typeface="AGAalenBold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      г. Снеж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9"/>
          <p:cNvGrpSpPr/>
          <p:nvPr/>
        </p:nvGrpSpPr>
        <p:grpSpPr>
          <a:xfrm>
            <a:off x="179280" y="907920"/>
            <a:ext cx="8569440" cy="4953240"/>
            <a:chOff x="179280" y="907920"/>
            <a:chExt cx="8569440" cy="4953240"/>
          </a:xfrm>
        </p:grpSpPr>
        <p:graphicFrame>
          <p:nvGraphicFramePr>
            <p:cNvPr id="106" name="Object 3"/>
            <p:cNvGraphicFramePr/>
            <p:nvPr/>
          </p:nvGraphicFramePr>
          <p:xfrm>
            <a:off x="1042920" y="907920"/>
            <a:ext cx="7705800" cy="495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907920"/>
                      <a:ext cx="77058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4"/>
            <p:cNvSpPr/>
            <p:nvPr/>
          </p:nvSpPr>
          <p:spPr>
            <a:xfrm>
              <a:off x="179280" y="5084640"/>
              <a:ext cx="14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40328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219708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32749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40687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0767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58705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69469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7740720" y="4402080"/>
              <a:ext cx="71892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34920" y="5624640"/>
            <a:ext cx="8353440" cy="520560"/>
            <a:chOff x="34920" y="5624640"/>
            <a:chExt cx="8353440" cy="520560"/>
          </a:xfrm>
        </p:grpSpPr>
        <p:sp>
          <p:nvSpPr>
            <p:cNvPr id="118" name="Text Box 5"/>
            <p:cNvSpPr/>
            <p:nvPr/>
          </p:nvSpPr>
          <p:spPr>
            <a:xfrm>
              <a:off x="34920" y="564660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 Black"/>
                </a:rPr>
                <a:t>р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147492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3,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3313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43,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511344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35,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6985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23,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1187280" y="5661000"/>
              <a:ext cx="144720" cy="360360"/>
            </a:xfrm>
            <a:prstGeom prst="upArrow">
              <a:avLst>
                <a:gd name="adj1" fmla="val 50000"/>
                <a:gd name="adj2" fmla="val 622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оотношение частей ФОТ в МДОУ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24000" y="134136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I квартал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689440" y="263700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Сентябрь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-828720" y="1379520"/>
          <a:ext cx="671508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1379520"/>
                    <a:ext cx="67150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8"/>
          <p:cNvGraphicFramePr/>
          <p:nvPr/>
        </p:nvGraphicFramePr>
        <p:xfrm>
          <a:off x="3708360" y="3003480"/>
          <a:ext cx="6912000" cy="373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003480"/>
                    <a:ext cx="691200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440px-Coat_of_arms_of_Chelyabinsk_Oblast"/>
          <p:cNvPicPr/>
          <p:nvPr/>
        </p:nvPicPr>
        <p:blipFill>
          <a:blip r:embed="rId1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oat_of_Arms_of_Snezhinsk_(Chelyabinsk_oblast)"/>
          <p:cNvPicPr/>
          <p:nvPr/>
        </p:nvPicPr>
        <p:blipFill>
          <a:blip r:embed="rId2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34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74840" y="398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чальник Управления образования г. Снежинска                   Б.М.Бекк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440px-Coat_of_arms_of_Chelyabinsk_Oblast"/>
          <p:cNvPicPr/>
          <p:nvPr/>
        </p:nvPicPr>
        <p:blipFill>
          <a:blip r:embed="rId2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oat_of_Arms_of_Snezhinsk_(Chelyabinsk_oblast)"/>
          <p:cNvPicPr/>
          <p:nvPr/>
        </p:nvPicPr>
        <p:blipFill>
          <a:blip r:embed="rId3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19120" y="618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обретение оборудования (учебно-лабораторного, учебно-производственного, спортивного, компьютерного, медицинского и для школьных столовы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полнение фондов школьных библиоте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азвитие школьной инфраструктуры (текущий ремонт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вышение квалификации, профессиональная переподготовка учителей и руководител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рганизация дистанционного обучения для обучаю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уществление мер, направленных на энергосбережение в системе общего 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обретение транспортных средств для подвоза школь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GAalenBold"/>
              </a:rPr>
              <a:t>Расходы по модернизации общего образования   в 2011 году, тыс.ру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971640" y="1700280"/>
            <a:ext cx="7699320" cy="3816360"/>
            <a:chOff x="971640" y="1700280"/>
            <a:chExt cx="7699320" cy="3816360"/>
          </a:xfrm>
        </p:grpSpPr>
        <p:graphicFrame>
          <p:nvGraphicFramePr>
            <p:cNvPr id="62" name="Object 7"/>
            <p:cNvGraphicFramePr/>
            <p:nvPr/>
          </p:nvGraphicFramePr>
          <p:xfrm>
            <a:off x="971640" y="2413080"/>
            <a:ext cx="7480080" cy="3103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413080"/>
                      <a:ext cx="7480080" cy="31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Rectangle 32"/>
            <p:cNvSpPr/>
            <p:nvPr/>
          </p:nvSpPr>
          <p:spPr>
            <a:xfrm>
              <a:off x="1116000" y="3716280"/>
              <a:ext cx="18734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обретение оборудов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3"/>
            <p:cNvSpPr/>
            <p:nvPr/>
          </p:nvSpPr>
          <p:spPr>
            <a:xfrm>
              <a:off x="2641680" y="1700280"/>
              <a:ext cx="2232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Развитие школьной инфраструктур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4"/>
            <p:cNvSpPr/>
            <p:nvPr/>
          </p:nvSpPr>
          <p:spPr>
            <a:xfrm>
              <a:off x="4572000" y="4149720"/>
              <a:ext cx="18874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вышение квалифик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5"/>
            <p:cNvSpPr/>
            <p:nvPr/>
          </p:nvSpPr>
          <p:spPr>
            <a:xfrm>
              <a:off x="6443640" y="4221000"/>
              <a:ext cx="2227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Энергосбере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60320" y="244440"/>
          <a:ext cx="777240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44440"/>
                    <a:ext cx="777240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9120" y="5493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обучающихся в общеобразовательных учреждениях, отвечающих современным требованиям, предъявляемым к условиям образовательного процесса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учителей , получивших в установленном порядке первую, высшую квалификационную категорию и подтвердивших соответствие занимаемой должност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школьников, получающих начальное общее образование в соответствии с ФГОСам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учителей и руководителей, прошедших повышение квалификации в соответствии с ФГОСам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выпускников, получивших аттестат о среднем образовани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обучающихся в общеобразовательных учреждениях, которым оказана поддержка в рамках программы поддержки одаренных детей и талантливой молодеж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ый вес общеобразовательных учреждений, в которых созданы от 81% до 100% условий для реализации федеральных требований в части охраны здоровья обучающихся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Заработная плата учителей школ г. Снежинска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484280"/>
          <a:ext cx="8229600" cy="3888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21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п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ней нагрузки на учител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став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             максимальной заработной платы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учетом установленной нагр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75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1 0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8 011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- 24 4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,17-1,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4 329        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- 39 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редняя заработная плата работников общеобразовательных учреждений г. Снежинска               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859040"/>
          <a:ext cx="8229600" cy="3370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13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едагогические  ра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П+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1 01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7 04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9 523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7 33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Изменение средней заработной платы работников школ</a:t>
            </a:r>
            <a:r>
              <a:rPr b="1" lang="en-US" sz="2400" spc="-1" strike="noStrike">
                <a:solidFill>
                  <a:srgbClr val="cc0000"/>
                </a:solidFill>
                <a:latin typeface="AGAalenBold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  г. Снеж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5"/>
          <p:cNvGrpSpPr/>
          <p:nvPr/>
        </p:nvGrpSpPr>
        <p:grpSpPr>
          <a:xfrm>
            <a:off x="34920" y="5589720"/>
            <a:ext cx="8353440" cy="555480"/>
            <a:chOff x="34920" y="5589720"/>
            <a:chExt cx="8353440" cy="555480"/>
          </a:xfrm>
        </p:grpSpPr>
        <p:sp>
          <p:nvSpPr>
            <p:cNvPr id="77" name="Text Box 26"/>
            <p:cNvSpPr/>
            <p:nvPr/>
          </p:nvSpPr>
          <p:spPr>
            <a:xfrm>
              <a:off x="34920" y="563580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 Black"/>
                </a:rPr>
                <a:t>р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147492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1,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3313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3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>
              <a:off x="511344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23,1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0"/>
            <p:cNvSpPr/>
            <p:nvPr/>
          </p:nvSpPr>
          <p:spPr>
            <a:xfrm>
              <a:off x="6985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2,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31"/>
            <p:cNvSpPr/>
            <p:nvPr/>
          </p:nvSpPr>
          <p:spPr>
            <a:xfrm>
              <a:off x="1187280" y="5589720"/>
              <a:ext cx="144720" cy="431640"/>
            </a:xfrm>
            <a:prstGeom prst="upArrow">
              <a:avLst>
                <a:gd name="adj1" fmla="val 50000"/>
                <a:gd name="adj2" fmla="val 745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54"/>
          <p:cNvGrpSpPr/>
          <p:nvPr/>
        </p:nvGrpSpPr>
        <p:grpSpPr>
          <a:xfrm>
            <a:off x="179280" y="907920"/>
            <a:ext cx="8569440" cy="4953240"/>
            <a:chOff x="179280" y="907920"/>
            <a:chExt cx="8569440" cy="4953240"/>
          </a:xfrm>
        </p:grpSpPr>
        <p:graphicFrame>
          <p:nvGraphicFramePr>
            <p:cNvPr id="84" name="Object 21"/>
            <p:cNvGraphicFramePr/>
            <p:nvPr/>
          </p:nvGraphicFramePr>
          <p:xfrm>
            <a:off x="1042920" y="907920"/>
            <a:ext cx="7705800" cy="495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907920"/>
                      <a:ext cx="77058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25"/>
            <p:cNvSpPr/>
            <p:nvPr/>
          </p:nvSpPr>
          <p:spPr>
            <a:xfrm>
              <a:off x="179280" y="5084640"/>
              <a:ext cx="14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0"/>
            <p:cNvSpPr/>
            <p:nvPr/>
          </p:nvSpPr>
          <p:spPr>
            <a:xfrm>
              <a:off x="1403280" y="436572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1"/>
            <p:cNvSpPr/>
            <p:nvPr/>
          </p:nvSpPr>
          <p:spPr>
            <a:xfrm>
              <a:off x="219708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40687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58705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7"/>
            <p:cNvSpPr/>
            <p:nvPr/>
          </p:nvSpPr>
          <p:spPr>
            <a:xfrm>
              <a:off x="7740720" y="4402080"/>
              <a:ext cx="71892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51"/>
            <p:cNvSpPr/>
            <p:nvPr/>
          </p:nvSpPr>
          <p:spPr>
            <a:xfrm>
              <a:off x="3276720" y="4292640"/>
              <a:ext cx="718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2"/>
            <p:cNvSpPr/>
            <p:nvPr/>
          </p:nvSpPr>
          <p:spPr>
            <a:xfrm>
              <a:off x="5076720" y="429264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3"/>
            <p:cNvSpPr/>
            <p:nvPr/>
          </p:nvSpPr>
          <p:spPr>
            <a:xfrm>
              <a:off x="6877080" y="436572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4:46:30Z</dcterms:created>
  <dc:creator>Семенова</dc:creator>
  <dc:description/>
  <dc:language>en-US</dc:language>
  <cp:lastModifiedBy>Yava</cp:lastModifiedBy>
  <dcterms:modified xsi:type="dcterms:W3CDTF">2011-10-18T08:16:41Z</dcterms:modified>
  <cp:revision>88</cp:revision>
  <dc:subject/>
  <dc:title>Итоги освоения финансовых средств, направленных на реализацию проекта «Образование»</dc:title>
</cp:coreProperties>
</file>